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80E1-1DB3-4E02-9E35-8FB5F0D2F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9CEF-27F1-4481-8ADE-E784F9539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9C9B-E1A6-457E-9536-76F61FD24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B3D2-8499-4D81-ABA6-67A45307F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2DC6-1380-4A39-B799-825C769D6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B16D-84B0-47E7-990F-74A5A5DC7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CE1C-2F22-45E5-A669-D527D5D36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60D1-BC81-4573-B5D1-BADC30A6F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D719-7F60-402D-865C-A7E07D0C7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C2DB-82FA-45A4-9916-746BC159B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2B50-EFD2-43F8-AC23-F5BFBC0E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F8C7-1285-406E-AC5D-96712A254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75F66-24DB-42BB-939E-B6F79B198BF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01:22:16Z</dcterms:created>
  <dc:creator>All user</dc:creator>
  <dc:description/>
  <dc:language>en-US</dc:language>
  <cp:lastModifiedBy>jseo7@ad.brown.edu</cp:lastModifiedBy>
  <dcterms:modified xsi:type="dcterms:W3CDTF">2021-03-06T09:34:11Z</dcterms:modified>
  <cp:revision>24</cp:revision>
  <dc:subject/>
  <dc:title>슬라이드 1</dc:title>
</cp:coreProperties>
</file>