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06E-166F-4890-9638-91A550F0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B2E-A5EF-4A38-AF89-8CD5F05A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07E-32CD-46B2-8E46-A8067D0E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D85-0472-4972-861B-9FC6D058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9A1-8AAB-4FC7-B759-AF249A58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419-E0B9-40DF-AEC7-7CD8B1BA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DF2-7176-47B8-9F7E-BA4A0AC5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C9E-E96B-44A7-8561-D0AEF7D4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530-52A6-4D3D-B7EF-187D8241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823-2AA7-4D1F-9D98-7BBFDFD5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00A-2532-4758-8673-8D97E226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5856-A61D-4C9D-B195-7C2746E6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9B4B-9FB4-47DE-948F-CABBF8257EE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06T09:34:11Z</dcterms:modified>
  <cp:revision>24</cp:revision>
  <dc:subject/>
  <dc:title>슬라이드 1</dc:title>
</cp:coreProperties>
</file>