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ED7-E75A-48E6-A91E-622B3FEC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1D8-5ABF-4896-96BF-9B8E4E0D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CED-C74D-4353-AFFD-8D368386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FF4-FDAC-48CC-A7DE-140B320F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52-AC9B-4E8E-8FFB-120822B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FB4-1920-4F9D-A0B8-E9678E8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C50-B2F7-4F57-9B4D-E45752D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7FD-A4FE-4C9E-A458-7663EDF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679-AB3F-4EFE-AFF8-48744AC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E09-5EC8-4CCB-9E9A-CE0A7394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008-5975-47F3-B3DD-9B187A00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23E-69A3-491F-A2BD-39C1E37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034-AA72-40B9-BEC2-352E4EDE18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hyperlink" Target="../&#1601;&#1607;&#1585;&#1587;%25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9120" y="1692360"/>
            <a:ext cx="8637840" cy="19227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ا سيدى املأ قلب</a:t>
            </a:r>
            <a:r>
              <a:rPr b="1" lang="ar-EG" sz="60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</a:t>
            </a:r>
            <a:r>
              <a:rPr b="1" lang="ar-SA" sz="6000" spc="-1" strike="noStrike">
                <a:solidFill>
                  <a:srgbClr val="f2fd1d"/>
                </a:solidFill>
                <a:latin typeface="Times New Roman"/>
                <a:ea typeface="AF_Unizah"/>
              </a:rPr>
              <a:t> بالحب لشخص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743200"/>
            <a:ext cx="86374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حقق لى ذا المطل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و أسكن بي روح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676520"/>
            <a:ext cx="75736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دعنى أرنم ترنيمة الح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8120"/>
            <a:ext cx="757368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يشدو بها قلبى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  <a:cs typeface="AF_Unizah"/>
              </a:rPr>
              <a:t>هبنى أقولها أح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810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سلمتك سيدي نفسي والكي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ك روح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ي لك جس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ك طول الزم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67652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فكري كذا والقلب احفظهما 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195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مجد اسم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افعل بي ما تشاء أنا ل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55412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</a:t>
            </a: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وإلى أن تعود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06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دف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ع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636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هبني أن أسهر</a:t>
            </a:r>
            <a:r>
              <a:rPr b="1" lang="en-US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1644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              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اسم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ـ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ك أخ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ـ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  <a:cs typeface="AF_Unizah"/>
              </a:rPr>
              <a:t>بر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AF_Unizah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74960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أمين تعال يا يسوع طالت غربت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47960"/>
            <a:ext cx="9144000" cy="3110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زادت أشواقنا تاقت قلوب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2fd1d"/>
                </a:solidFill>
                <a:latin typeface="Times New Roman"/>
                <a:cs typeface="AF_Unizah"/>
              </a:rPr>
              <a:t>لذا اللق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دعنى أرن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لمتك سي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كرى كذ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 الى أن تع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5373720"/>
            <a:ext cx="3816360" cy="708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آمين ت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ا سيدى أم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21:17:38Z</dcterms:created>
  <dc:creator>FOFO</dc:creator>
  <dc:description/>
  <dc:language>en-US</dc:language>
  <cp:lastModifiedBy>Sp2</cp:lastModifiedBy>
  <dcterms:modified xsi:type="dcterms:W3CDTF">2008-09-09T12:47:51Z</dcterms:modified>
  <cp:revision>7</cp:revision>
  <dc:subject/>
  <dc:title>الشريحة 1</dc:title>
</cp:coreProperties>
</file>