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16AC-6887-491B-A1AF-C4E21C917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02C4-7D53-4F7A-B60C-51E9D116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D765-E2CA-4B3E-AD80-2379241F1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1F27-6098-4650-B019-87F34AB4B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30E8-F0E9-4530-8859-FCD167A3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176B-7DF1-480C-AF19-BFBA3FE9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5449-9658-4806-B4DF-99CCB58F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B515-F20F-4696-AD1D-0AAA7C4D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424F-191D-4CB3-8195-E447DEE5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A400-AA2F-4DFB-B32D-B85FEFFF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7C89-502C-4DE3-B78F-815E367C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18B4-96FB-4303-B377-A425EAC6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002F-3D29-498E-B2D0-F1C167301E2F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hyperlink" Target="../&#1601;&#1607;&#1585;&#1587;%2520&#1575;&#1604;&#1578;&#1585;&#1575;&#1606;&#1610;&#1605;.pps" TargetMode="External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9120" y="1692360"/>
            <a:ext cx="8637840" cy="192276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2fd1d"/>
                </a:solidFill>
                <a:latin typeface="Times New Roman"/>
                <a:cs typeface="AF_Unizah"/>
              </a:rPr>
              <a:t>يا سيدى املأ قلب</a:t>
            </a:r>
            <a:r>
              <a:rPr b="1" lang="ar-EG" sz="6000" spc="-1" strike="noStrike">
                <a:solidFill>
                  <a:srgbClr val="f2fd1d"/>
                </a:solidFill>
                <a:latin typeface="Times New Roman"/>
                <a:cs typeface="AF_Unizah"/>
              </a:rPr>
              <a:t>ي</a:t>
            </a:r>
            <a:r>
              <a:rPr b="1" lang="ar-SA" sz="6000" spc="-1" strike="noStrike">
                <a:solidFill>
                  <a:srgbClr val="f2fd1d"/>
                </a:solidFill>
                <a:latin typeface="Times New Roman"/>
                <a:ea typeface="AF_Unizah"/>
              </a:rPr>
              <a:t> بالحب لشخص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743200"/>
            <a:ext cx="8637480" cy="228852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2fd1d"/>
                </a:solidFill>
                <a:latin typeface="Times New Roman"/>
                <a:cs typeface="AF_Unizah"/>
              </a:rPr>
              <a:t>حقق لى ذا المطل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2fd1d"/>
                </a:solidFill>
                <a:latin typeface="Times New Roman"/>
                <a:ea typeface="AF_Unizah"/>
              </a:rPr>
              <a:t> و أسكن بي روح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2120" y="1676520"/>
            <a:ext cx="7573680" cy="228852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  <a:cs typeface="AF_Unizah"/>
              </a:rPr>
              <a:t>دعنى أرنم ترنيمة الح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3048120"/>
            <a:ext cx="7573680" cy="338580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  <a:cs typeface="AF_Unizah"/>
              </a:rPr>
              <a:t>يشدو بها قلبى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  <a:cs typeface="AF_Unizah"/>
              </a:rPr>
              <a:t>هبنى أقولها أحب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98108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2fd1d"/>
                </a:solidFill>
                <a:latin typeface="Times New Roman"/>
                <a:cs typeface="AF_Unizah"/>
              </a:rPr>
              <a:t>سلمتك سيدي نفسي والكيا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048120"/>
            <a:ext cx="9144000" cy="338580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2fd1d"/>
                </a:solidFill>
                <a:latin typeface="Times New Roman"/>
                <a:cs typeface="AF_Unizah"/>
              </a:rPr>
              <a:t>لك روح</a:t>
            </a:r>
            <a:r>
              <a:rPr b="1" lang="ar-EG" sz="7200" spc="-1" strike="noStrike">
                <a:solidFill>
                  <a:srgbClr val="f2fd1d"/>
                </a:solidFill>
                <a:latin typeface="Times New Roman"/>
                <a:cs typeface="AF_Unizah"/>
              </a:rPr>
              <a:t>ــــــ</a:t>
            </a:r>
            <a:r>
              <a:rPr b="1" lang="ar-SA" sz="7200" spc="-1" strike="noStrike">
                <a:solidFill>
                  <a:srgbClr val="f2fd1d"/>
                </a:solidFill>
                <a:latin typeface="Times New Roman"/>
                <a:cs typeface="AF_Unizah"/>
              </a:rPr>
              <a:t>ي لك جسد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2fd1d"/>
                </a:solidFill>
                <a:latin typeface="Times New Roman"/>
                <a:cs typeface="AF_Unizah"/>
              </a:rPr>
              <a:t>لك طول الزما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167652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2fd1d"/>
                </a:solidFill>
                <a:latin typeface="Times New Roman"/>
                <a:cs typeface="AF_Unizah"/>
              </a:rPr>
              <a:t>فكري كذا والقلب احفظهما ل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819520"/>
            <a:ext cx="9144000" cy="338580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2fd1d"/>
                </a:solidFill>
                <a:latin typeface="Times New Roman"/>
                <a:cs typeface="AF_Unizah"/>
              </a:rPr>
              <a:t>لمجد اسم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2fd1d"/>
                </a:solidFill>
                <a:latin typeface="Times New Roman"/>
                <a:cs typeface="AF_Unizah"/>
              </a:rPr>
              <a:t>افعل بي ما تشاء أنا ل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155412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2fd1d"/>
                </a:solidFill>
                <a:latin typeface="Times New Roman"/>
                <a:ea typeface="AF_Unizah"/>
              </a:rPr>
              <a:t> </a:t>
            </a:r>
            <a:r>
              <a:rPr b="1" lang="en-US" sz="7200" spc="-1" strike="noStrike">
                <a:solidFill>
                  <a:srgbClr val="f2fd1d"/>
                </a:solidFill>
                <a:latin typeface="Times New Roman"/>
                <a:ea typeface="AF_Unizah"/>
              </a:rPr>
              <a:t> </a:t>
            </a:r>
            <a:r>
              <a:rPr b="1" lang="ar-SA" sz="7200" spc="-1" strike="noStrike">
                <a:solidFill>
                  <a:srgbClr val="f2fd1d"/>
                </a:solidFill>
                <a:latin typeface="Times New Roman"/>
                <a:cs typeface="AF_Unizah"/>
              </a:rPr>
              <a:t>وإلى أن تعود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30660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2fd1d"/>
                </a:solidFill>
                <a:latin typeface="Times New Roman"/>
                <a:ea typeface="AF_Unizah"/>
              </a:rPr>
              <a:t>  </a:t>
            </a:r>
            <a:r>
              <a:rPr b="1" lang="ar-SA" sz="7200" spc="-1" strike="noStrike">
                <a:solidFill>
                  <a:srgbClr val="f2fd1d"/>
                </a:solidFill>
                <a:latin typeface="Times New Roman"/>
                <a:cs typeface="AF_Unizah"/>
              </a:rPr>
              <a:t>بدف و</a:t>
            </a:r>
            <a:r>
              <a:rPr b="1" lang="ar-EG" sz="7200" spc="-1" strike="noStrike">
                <a:solidFill>
                  <a:srgbClr val="f2fd1d"/>
                </a:solidFill>
                <a:latin typeface="Times New Roman"/>
                <a:cs typeface="AF_Unizah"/>
              </a:rPr>
              <a:t>ب</a:t>
            </a:r>
            <a:r>
              <a:rPr b="1" lang="ar-SA" sz="7200" spc="-1" strike="noStrike">
                <a:solidFill>
                  <a:srgbClr val="f2fd1d"/>
                </a:solidFill>
                <a:latin typeface="Times New Roman"/>
                <a:cs typeface="AF_Unizah"/>
              </a:rPr>
              <a:t>ع</a:t>
            </a:r>
            <a:r>
              <a:rPr b="1" lang="ar-EG" sz="7200" spc="-1" strike="noStrike">
                <a:solidFill>
                  <a:srgbClr val="f2fd1d"/>
                </a:solidFill>
                <a:latin typeface="Times New Roman"/>
                <a:cs typeface="AF_Unizah"/>
              </a:rPr>
              <a:t>ـــ</a:t>
            </a:r>
            <a:r>
              <a:rPr b="1" lang="ar-SA" sz="7200" spc="-1" strike="noStrike">
                <a:solidFill>
                  <a:srgbClr val="f2fd1d"/>
                </a:solidFill>
                <a:latin typeface="Times New Roman"/>
                <a:cs typeface="AF_Unizah"/>
              </a:rPr>
              <a:t>ود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16360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2fd1d"/>
                </a:solidFill>
                <a:latin typeface="Times New Roman"/>
                <a:cs typeface="AF_Unizah"/>
              </a:rPr>
              <a:t>هبني أن أسهر</a:t>
            </a:r>
            <a:r>
              <a:rPr b="1" lang="en-US" sz="7200" spc="-1" strike="noStrike">
                <a:solidFill>
                  <a:srgbClr val="f2fd1d"/>
                </a:solidFill>
                <a:latin typeface="Times New Roman"/>
                <a:ea typeface="AF_Unizah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91644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2fd1d"/>
                </a:solidFill>
                <a:latin typeface="Times New Roman"/>
                <a:ea typeface="AF_Unizah"/>
              </a:rPr>
              <a:t>                 </a:t>
            </a:r>
            <a:r>
              <a:rPr b="1" lang="ar-SA" sz="7200" spc="-1" strike="noStrike">
                <a:solidFill>
                  <a:srgbClr val="f2fd1d"/>
                </a:solidFill>
                <a:latin typeface="Times New Roman"/>
                <a:cs typeface="AF_Unizah"/>
              </a:rPr>
              <a:t>باسم</a:t>
            </a:r>
            <a:r>
              <a:rPr b="1" lang="ar-EG" sz="7200" spc="-1" strike="noStrike">
                <a:solidFill>
                  <a:srgbClr val="f2fd1d"/>
                </a:solidFill>
                <a:latin typeface="Times New Roman"/>
                <a:cs typeface="AF_Unizah"/>
              </a:rPr>
              <a:t>ـــ</a:t>
            </a:r>
            <a:r>
              <a:rPr b="1" lang="ar-SA" sz="7200" spc="-1" strike="noStrike">
                <a:solidFill>
                  <a:srgbClr val="f2fd1d"/>
                </a:solidFill>
                <a:latin typeface="Times New Roman"/>
                <a:cs typeface="AF_Unizah"/>
              </a:rPr>
              <a:t>ك أخ</a:t>
            </a:r>
            <a:r>
              <a:rPr b="1" lang="ar-EG" sz="7200" spc="-1" strike="noStrike">
                <a:solidFill>
                  <a:srgbClr val="f2fd1d"/>
                </a:solidFill>
                <a:latin typeface="Times New Roman"/>
                <a:cs typeface="AF_Unizah"/>
              </a:rPr>
              <a:t>ـ</a:t>
            </a:r>
            <a:r>
              <a:rPr b="1" lang="ar-SA" sz="7200" spc="-1" strike="noStrike">
                <a:solidFill>
                  <a:srgbClr val="f2fd1d"/>
                </a:solidFill>
                <a:latin typeface="Times New Roman"/>
                <a:cs typeface="AF_Unizah"/>
              </a:rPr>
              <a:t>بر</a:t>
            </a:r>
            <a:r>
              <a:rPr b="1" lang="ar-EG" sz="7200" spc="-1" strike="noStrike">
                <a:solidFill>
                  <a:srgbClr val="f2fd1d"/>
                </a:solidFill>
                <a:latin typeface="Times New Roman"/>
                <a:ea typeface="AF_Unizah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1749600"/>
            <a:ext cx="9144000" cy="21049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f2fd1d"/>
                </a:solidFill>
                <a:latin typeface="Times New Roman"/>
                <a:cs typeface="AF_Unizah"/>
              </a:rPr>
              <a:t>أمين تعال يا يسوع طالت غربتن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847960"/>
            <a:ext cx="9144000" cy="311040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f2fd1d"/>
                </a:solidFill>
                <a:latin typeface="Times New Roman"/>
                <a:cs typeface="AF_Unizah"/>
              </a:rPr>
              <a:t>زادت أشواقنا تاقت قلوبن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f2fd1d"/>
                </a:solidFill>
                <a:latin typeface="Times New Roman"/>
                <a:cs typeface="AF_Unizah"/>
              </a:rPr>
              <a:t>لذا اللقاء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92720" y="1413000"/>
            <a:ext cx="3816360" cy="707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دعنى أرن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92720" y="2433600"/>
            <a:ext cx="3816360" cy="708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سلمتك سيد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441600"/>
            <a:ext cx="3816360" cy="708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فكرى كذ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92720" y="4437000"/>
            <a:ext cx="3816360" cy="708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و الى أن تعو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292720" y="5373720"/>
            <a:ext cx="3816360" cy="7081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آمين تعا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92720" y="417600"/>
            <a:ext cx="3816360" cy="7077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يا سيدى أمل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92">
            <a:hlinkClick r:id="rId8"/>
          </p:cNvPr>
          <p:cNvSpPr/>
          <p:nvPr/>
        </p:nvSpPr>
        <p:spPr>
          <a:xfrm>
            <a:off x="900000" y="260280"/>
            <a:ext cx="2448000" cy="11912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abic Transparent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21:17:38Z</dcterms:created>
  <dc:creator>FOFO</dc:creator>
  <dc:description/>
  <dc:language>en-US</dc:language>
  <cp:lastModifiedBy>Sp2</cp:lastModifiedBy>
  <dcterms:modified xsi:type="dcterms:W3CDTF">2008-09-09T12:47:51Z</dcterms:modified>
  <cp:revision>7</cp:revision>
  <dc:subject/>
  <dc:title>الشريحة 1</dc:title>
</cp:coreProperties>
</file>