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4EB-4FE2-4276-A779-6D933AEE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995-EFB4-4A49-8587-49D2213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C19-A9EB-46E8-AC28-1B6C43FF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864-9358-402B-ACA3-03CB7650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210C-770B-4787-B7C0-8B6F7270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D314-32D0-46F6-83C1-5BD7A2C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2050-A8A3-4E20-8C9D-25E3C15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9DB-2AAE-4924-93AB-822F5FD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649C-96CD-478A-AB08-BE63AAA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766-9464-4BE0-BFEB-0CD85A73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B002-7E97-4793-B7F7-5860388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6AA-05D9-4662-9711-B2E9F87B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ECC8-CED2-477E-9513-DA2B40F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4577-8385-4A9F-A50B-DE4B98E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C3CC-D13E-47FC-A72F-1752A0B5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4CE7-2F44-467C-9AA8-DC975738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403-E65C-4BBB-910C-33612395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D51-F771-466A-8F7E-0579A99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34C-CBB4-466C-BD75-658D301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5DE-C625-4E75-BF0F-26B2663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696-A0C6-4789-B80D-E4A630A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F08-1144-4C26-9534-33B6101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6AE-0490-4869-9E25-25FAA8D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6BB-F131-4083-87BB-4B0F19F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0553-22C5-405C-A788-033993BB8B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E6D-B33B-490B-8D99-EBA06E319F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PROSES MEMBUAT STRUKTUR ORGANISA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LINNY OKTOVIA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RNILA R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NIRW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STRUKTUR ORGANISAS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 Organisasi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ganization 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nentukan bagaimana pekerjaan dibagi, dikelompokkan, dan dikoordinasikan secara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EMPAT UNSUR ORGANISAS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Goal Orient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itu mengarah kepada pencapaian tuj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Psychosoci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-orang yang berhubungan satu sama lain dalam kelompok ker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tructure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-orang bekerja sama dalam suatu hubungan yang terp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Technologic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aitu orang yang menggunakan pengetahuan dan teknolo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NAM ELEMEN KUNC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360" y="98064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36c03"/>
                </a:solidFill>
                <a:latin typeface="Arial"/>
              </a:rPr>
              <a:t>Ada enam elemen kunci yang perlu diperhatikan oleh para manajer ketika hendak mendesain struktur organis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2708280"/>
            <a:ext cx="64008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pesialisasi Ke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Departement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Rantai Kom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Rentang Kend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Sentr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Desentr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Formal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BEBERAPA PERTANYAAN DAN JAWABAN PENTING UNTUK MENDESAIN STRUKTUR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38280" y="1268280"/>
          <a:ext cx="6400800" cy="5729400"/>
        </p:xfrm>
        <a:graphic>
          <a:graphicData uri="http://schemas.openxmlformats.org/drawingml/2006/table">
            <a:tbl>
              <a:tblPr/>
              <a:tblGrid>
                <a:gridCol w="3646440"/>
                <a:gridCol w="275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ertanyaan Kun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awaban diberikan mela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ampai sejauh mana aktivitas dipecah menjadi pekerjaan-pekerjaan yang berbed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Spesialisasi pekerj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tas dasar apa pekerjaan akan dikelompokk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Departement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epada siapa individu dan kelompok memberikan pertanggungjawaban merek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Rantai Kom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rapa banyak orang yang dapat diarahkan oleh seorang manajer secara efisien dan efekt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Rantai Kend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imana wewenang pengambilan keputusan berad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Sentralisasi dan Desentr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ejauh mana aturan dan ketentuan untuk mengatur dan mengarahkan karyawan dan manajer diperluk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005c"/>
                          </a:solidFill>
                          <a:latin typeface="Arial"/>
                        </a:rPr>
                        <a:t>Formalis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3:19:23Z</dcterms:created>
  <dc:creator>RiXxA-MaN 'ThE BaNdItZ'</dc:creator>
  <dc:description/>
  <dc:language>en-US</dc:language>
  <cp:lastModifiedBy>HEKSA</cp:lastModifiedBy>
  <dcterms:modified xsi:type="dcterms:W3CDTF">2011-03-31T04:16:06Z</dcterms:modified>
  <cp:revision>7</cp:revision>
  <dc:subject/>
  <dc:title>PROSES MEMBUAT STRUKTUR ORGANISASI</dc:title>
</cp:coreProperties>
</file>