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5AF-248C-45A6-9703-BC63308D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20B-AB0D-40DD-90AA-7FF7BA4E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632-321D-493A-A828-3FC8C328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FB8-6AF3-4B87-9DD3-2F970B91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4F34-6B9D-4DAF-B8CE-370AA61D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9080-122B-4D1C-8080-017811D6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C628-6A96-46B2-B7F7-014545BC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E12D-3D0D-4BA9-BEDC-464DB2B9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E662-F7B9-419C-BC42-78A01A67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F78A-DC5E-409E-ACF3-4859D399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1195-3DBC-4D76-B2DD-5A3538CA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8D0-FBD5-46E0-955D-2517DACF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6104-1C0D-4F77-9C30-C2008816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FB42-8565-4F66-B3B9-B5D8F434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6D34-31A2-4BFA-A022-0AA3EBFB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85B5-BE95-479C-9C70-DF1C5FF4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BB18-68F0-49D2-A75A-35B7702E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99F0-6C83-47FF-8965-56AA4632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51E2-87B1-445D-8D68-77020D73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FB1-99E8-454D-8407-42F4C5A2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916-01E9-4B7B-ADA3-776E1890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9E4-A883-4298-8DA4-7CAD4BCD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339-B366-4726-950B-876A0924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01F-B64E-48DC-BB92-56713812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B21C-549F-42BF-8FF1-7FB39933C4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0F49-4A6C-454B-9511-4262FB342E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PROSES MEMBUAT STRUKTUR ORGANISAS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LINNY OKTOVIA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RNILA R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NIRW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STRUKTUR ORGANISAS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ktur Organisasi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ganization stru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menentukan bagaimana pekerjaan dibagi, dikelompokkan, dan dikoordinasikan secara f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EMPAT UNSUR ORGANISASI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Goal Oriente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itu mengarah kepada pencapaian tuju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Psychosocial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aitu orang-orang yang berhubungan satu sama lain dalam kelompok ker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Structure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aitu orang-orang bekerja sama dalam suatu hubungan yang terpo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Technological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aitu orang yang menggunakan pengetahuan dan teknolo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NAM ELEMEN KUNC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84360" y="98064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36c03"/>
                </a:solidFill>
                <a:latin typeface="Arial"/>
              </a:rPr>
              <a:t>Ada enam elemen kunci yang perlu diperhatikan oleh para manajer ketika hendak mendesain struktur organisa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2708280"/>
            <a:ext cx="640080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Spesialisasi Ker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Departemental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Rantai Kom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Rentang Kend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Sentral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Desentral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Formal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BEBERAPA PERTANYAAN DAN JAWABAN PENTING UNTUK MENDESAIN STRUKTUR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38280" y="1268280"/>
          <a:ext cx="6400800" cy="5729400"/>
        </p:xfrm>
        <a:graphic>
          <a:graphicData uri="http://schemas.openxmlformats.org/drawingml/2006/table">
            <a:tbl>
              <a:tblPr/>
              <a:tblGrid>
                <a:gridCol w="3646440"/>
                <a:gridCol w="275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ertanyaan Kun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awaban diberikan mela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ampai sejauh mana aktivitas dipecah menjadi pekerjaan-pekerjaan yang berbed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Spesialisasi pekerja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tas dasar apa pekerjaan akan dikelompokka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Departementalis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Kepada siapa individu dan kelompok memberikan pertanggungjawaban merek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Rantai Koma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rapa banyak orang yang dapat diarahkan oleh seorang manajer secara efisien dan efekt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Rantai Kend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imana wewenang pengambilan keputusan berad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Sentralisasi dan Desentralis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ejauh mana aturan dan ketentuan untuk mengatur dan mengarahkan karyawan dan manajer diperluka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Formalis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23:19:23Z</dcterms:created>
  <dc:creator>RiXxA-MaN 'ThE BaNdItZ'</dc:creator>
  <dc:description/>
  <dc:language>en-US</dc:language>
  <cp:lastModifiedBy>HEKSA</cp:lastModifiedBy>
  <dcterms:modified xsi:type="dcterms:W3CDTF">2011-03-31T04:16:06Z</dcterms:modified>
  <cp:revision>7</cp:revision>
  <dc:subject/>
  <dc:title>PROSES MEMBUAT STRUKTUR ORGANISASI</dc:title>
</cp:coreProperties>
</file>