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3.png" ContentType="image/png"/>
  <Override PartName="/ppt/media/2.50%20jansmit-vriendenvoorhetleven.wav" ContentType="audio/x-wav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8CB-0F0A-42DD-8955-896BFE61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E59-B164-4E46-B3C5-4DB8436B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9CB-CDDB-46C5-BFDA-CBF558AD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433-A903-4947-AB14-3EA03BE5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9DA-7ADD-4A43-8DC4-88B877FD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4C2-A7F5-43C2-875B-7E8F59D1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0FD-4725-4870-9289-FF8319A3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6EC-C027-478E-9D85-E2D11C1E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71D-415D-42B7-B444-B4B0F9B6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F6C-98C4-4309-B170-2B8511E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DB5-01F3-47C1-96EE-9AFA9D29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E86-42D3-413C-AB1E-E1EB9F7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A383-D1CF-4546-9D71-3E488488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audio" Target="../media/2.50%20jansmit-vriendenvoorhetleven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3640" y="2561400"/>
            <a:ext cx="646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k hoop dat je dit terug stu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Dit is één van de liefste en schattigste mails omtrent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gelukkige vriendschapsweek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Dus......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Gelukkige Nationale Vriendschapswe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MA6.1045618163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863640" cy="13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308720" y="549360"/>
            <a:ext cx="1424160" cy="138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094520" y="5460840"/>
            <a:ext cx="2049480" cy="13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7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594520"/>
            <a:ext cx="734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Er zullen veel mensen in en uit je leven wan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Maar alleen echte vrienden laten voetafdruk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achter in je hart. 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Om jezelf te hanteren, gebruik je hoofd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Om anderen te hanteren, gebruik je h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A1.1045618163" descr=""/>
          <p:cNvPicPr/>
          <p:nvPr/>
        </p:nvPicPr>
        <p:blipFill>
          <a:blip r:embed="rId2"/>
          <a:stretch/>
        </p:blipFill>
        <p:spPr>
          <a:xfrm>
            <a:off x="0" y="46864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645160" y="4708440"/>
            <a:ext cx="349884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2417400"/>
            <a:ext cx="61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Groot denkende mensen bediscussiëren ideeën, gemiddeld denkende men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bediscussiëren gebeurteniss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klein denkende men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bediscussiëren personen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MA2.1045618163" descr=""/>
          <p:cNvPicPr/>
          <p:nvPr/>
        </p:nvPicPr>
        <p:blipFill>
          <a:blip r:embed="rId2"/>
          <a:stretch/>
        </p:blipFill>
        <p:spPr>
          <a:xfrm>
            <a:off x="3203640" y="4437000"/>
            <a:ext cx="380988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237924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ij die geld verliest, verliest ve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ij die een vriend verliest, verliest veel me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ij die het vertrouwen verliest, verliest alles. 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Leer uit de fouten van een an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Je leeft niet lang genoeg om ze allemaal zelf te mak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MA4.1045618163" descr=""/>
          <p:cNvPicPr/>
          <p:nvPr/>
        </p:nvPicPr>
        <p:blipFill>
          <a:blip r:embed="rId2"/>
          <a:stretch/>
        </p:blipFill>
        <p:spPr>
          <a:xfrm>
            <a:off x="3419640" y="4797360"/>
            <a:ext cx="2857320" cy="18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48400" y="2562120"/>
            <a:ext cx="561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Vriend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jij en 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Jij bracht een andere vriend me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En toen waren er dri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We startten onze groep op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Onze cirkel van vriende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Waar geen begin is en ook geen ein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87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MA3.1045618163" descr=""/>
          <p:cNvPicPr/>
          <p:nvPr/>
        </p:nvPicPr>
        <p:blipFill>
          <a:blip r:embed="rId2"/>
          <a:stretch/>
        </p:blipFill>
        <p:spPr>
          <a:xfrm>
            <a:off x="755640" y="522936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164360" y="5229360"/>
            <a:ext cx="1424160" cy="13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84480" y="2655000"/>
            <a:ext cx="47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Gisteren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is geschieden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Morgen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is een myster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Vandaag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 een cad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A7.1045618163" descr=""/>
          <p:cNvPicPr/>
          <p:nvPr/>
        </p:nvPicPr>
        <p:blipFill>
          <a:blip r:embed="rId2"/>
          <a:stretch/>
        </p:blipFill>
        <p:spPr>
          <a:xfrm>
            <a:off x="4500720" y="4653000"/>
            <a:ext cx="277164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763640" y="4581360"/>
            <a:ext cx="2743200" cy="18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66760" y="2634120"/>
            <a:ext cx="797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et is de Nationale Vriendschaps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Laat je vrienden zien hoeveel je om hen geeft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Verstuur dit naar iedereen die je als 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een VRIEND beschouw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Als het terugkomt naar jo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dan weet je dat je een cirkel van vrienden heb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50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00360" y="5229360"/>
            <a:ext cx="866880" cy="1333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84720" y="5229360"/>
            <a:ext cx="866880" cy="134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2489040"/>
            <a:ext cx="748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ALS JE DEZE MAIL ONTVANGT, 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WORDT ER VAN JOU VERW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DAT JE DEZE MAIL DOORSTUU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INCLUSIEF NAAR DE PERSOON D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SimSun"/>
              </a:rPr>
              <a:t>HEM NAAR JOU GEZONDEN HE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4365720"/>
            <a:ext cx="3772080" cy="184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667640" y="260280"/>
            <a:ext cx="1203480" cy="198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83528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6800"/>
                            </p:stCondLst>
                            <p:childTnLst>
                              <p:par>
                                <p:cTn id="14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0:01:17Z</dcterms:created>
  <dc:creator> ppkk</dc:creator>
  <dc:description/>
  <dc:language>en-US</dc:language>
  <cp:lastModifiedBy>Smets</cp:lastModifiedBy>
  <dcterms:modified xsi:type="dcterms:W3CDTF">2008-10-07T18:50:10Z</dcterms:modified>
  <cp:revision>4</cp:revision>
  <dc:subject/>
  <dc:title>vrienschapsweek</dc:title>
</cp:coreProperties>
</file>