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3.png" ContentType="image/png"/>
  <Override PartName="/ppt/media/2.50%20jansmit-vriendenvoorhetleven.wav" ContentType="audio/x-wav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345-3FEA-4849-AA4D-4F260D37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BEA-CA33-48F0-8F5B-2A0423B4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7B9-CDA8-4259-BDBE-62A1B9F0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EEB-3558-400D-916A-327BA8FB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4AB-94F9-4B9C-9776-2D3A20B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AB1-D8E0-4996-A420-AF96FE62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BF9-8D4F-41D5-A88B-FC99FF22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3C8-9D7E-4453-A54C-4BE4B857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3AD-9E38-42DC-BBBA-AA99648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C66-C12F-4B9D-86ED-C36D5C6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142-853E-490B-AC62-3355741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1F3-D68F-4ECF-BD40-5C6B147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7C2-1EB8-4C7A-83CF-C335D8F9D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2.50%20jansmit-vriendenvoorhetleven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561400"/>
            <a:ext cx="646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k hoop dat je dit terug stu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it is één van de liefste en schattigste mails omtrent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gelukkige vriendschapsweek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us......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Gelukkige Nationale Vriendschaps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MA6.1045618163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86364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08720" y="549360"/>
            <a:ext cx="1424160" cy="138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94520" y="5460840"/>
            <a:ext cx="204948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7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594520"/>
            <a:ext cx="734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Er zullen veel mensen in en uit je leven wan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Maar alleen echte vrienden laten voetafdruk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chter in je hart.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Om jezelf te hanteren, gebruik je hoofd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Om anderen te hanteren, gebruik je 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A1.1045618163" descr=""/>
          <p:cNvPicPr/>
          <p:nvPr/>
        </p:nvPicPr>
        <p:blipFill>
          <a:blip r:embed="rId2"/>
          <a:stretch/>
        </p:blipFill>
        <p:spPr>
          <a:xfrm>
            <a:off x="0" y="46864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645160" y="4708440"/>
            <a:ext cx="349884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2417400"/>
            <a:ext cx="61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Groot denkende mensen bediscussiëren ideeën, gemiddeld denkende men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bediscussiëren gebeurteniss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klein denkende men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bediscussiëren personen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2.1045618163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80988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23792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ij die geld verliest, verliest v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ij die een vriend verliest, verliest veel me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ij die het vertrouwen verliest, verliest alles.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Leer uit de fouten van een a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Je leeft niet lang genoeg om ze allemaal zelf te ma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A4.1045618163" descr=""/>
          <p:cNvPicPr/>
          <p:nvPr/>
        </p:nvPicPr>
        <p:blipFill>
          <a:blip r:embed="rId2"/>
          <a:stretch/>
        </p:blipFill>
        <p:spPr>
          <a:xfrm>
            <a:off x="3419640" y="4797360"/>
            <a:ext cx="285732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48400" y="2562120"/>
            <a:ext cx="561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Vriend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jij en 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Jij bracht een andere vriend me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En toen waren er dri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We startten onze groep op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Onze cirkel van vriend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Waar geen begin is en ook geen ein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A3.1045618163" descr=""/>
          <p:cNvPicPr/>
          <p:nvPr/>
        </p:nvPicPr>
        <p:blipFill>
          <a:blip r:embed="rId2"/>
          <a:stretch/>
        </p:blipFill>
        <p:spPr>
          <a:xfrm>
            <a:off x="755640" y="522936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64360" y="5229360"/>
            <a:ext cx="1424160" cy="13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84480" y="265500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Gisteren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is geschiede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orgen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is een myste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Vandaa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 een cad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A7.1045618163" descr=""/>
          <p:cNvPicPr/>
          <p:nvPr/>
        </p:nvPicPr>
        <p:blipFill>
          <a:blip r:embed="rId2"/>
          <a:stretch/>
        </p:blipFill>
        <p:spPr>
          <a:xfrm>
            <a:off x="4500720" y="4653000"/>
            <a:ext cx="277164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63640" y="4581360"/>
            <a:ext cx="274320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66760" y="2634120"/>
            <a:ext cx="79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et is de Nationale Vriendschaps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Laat je vrienden zien hoeveel je om hen geeft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Verstuur dit naar iedereen die je als 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een VRIEND beschouw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ls het terugkomt naar jo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an weet je dat je een cirkel van vrienden heb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0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00360" y="5229360"/>
            <a:ext cx="86688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84720" y="5229360"/>
            <a:ext cx="866880" cy="134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489040"/>
            <a:ext cx="748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LS JE DEZE MAIL ONTVANGT, 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WORDT ER VAN JOU VER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AT JE DEZE MAIL DOORSTUU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INCLUSIEF NAAR DE PERSOON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EM NAAR JOU GEZONDEN HE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77208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203480" cy="198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83528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6800"/>
                            </p:stCondLst>
                            <p:childTnLst>
                              <p:par>
                                <p:cTn id="14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0:01:17Z</dcterms:created>
  <dc:creator> ppkk</dc:creator>
  <dc:description/>
  <dc:language>en-US</dc:language>
  <cp:lastModifiedBy>Smets</cp:lastModifiedBy>
  <dcterms:modified xsi:type="dcterms:W3CDTF">2008-10-07T18:50:10Z</dcterms:modified>
  <cp:revision>4</cp:revision>
  <dc:subject/>
  <dc:title>vrienschapsweek</dc:title>
</cp:coreProperties>
</file>