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5.jpeg" ContentType="image/jpeg"/>
  <Override PartName="/ppt/media/Guus%20Meeuwis%20-%20geef%20mij%20nu%20je%20angst.wav" ContentType="audio/x-wav"/>
  <Override PartName="/ppt/media/image18.png" ContentType="image/png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7A9-A08F-45BF-8988-A05917D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FE7-C34C-43DF-A1F9-35D6DEF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5FD-20F3-4DB6-A5E4-202C1B8F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615-BE2A-495F-90BE-1D567A7A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780-9FD5-4C88-9DA9-067A93C3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5C3-BF87-4E8E-B1CD-352ADC2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70B-C0F5-4DB6-B9D1-BBC4FEF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DC4-4203-4D99-AEC6-957D70C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7C0-EABC-4038-A44F-332FF01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604-B5FD-4259-BED5-E1D89C55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DB5-9ED4-4927-84C3-A57BA3B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6A2-6F06-4F70-9BE4-602FBCB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7221-0122-42DB-B907-72860F1B6E4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us%20Meeuwis%20-%20geef%20mij%20nu%20je%20angs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ome.hccnet.nl/w.popken/popken2/natuur/page2.ht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7640" y="-7920"/>
            <a:ext cx="9180720" cy="687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2997360"/>
            <a:ext cx="7315200" cy="3020040"/>
          </a:xfrm>
          <a:prstGeom prst="rect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9600" spc="-1" strike="noStrike">
                <a:solidFill>
                  <a:srgbClr val="660066"/>
                </a:solidFill>
                <a:latin typeface="Monotype Corsiva"/>
              </a:rPr>
              <a:t>Another  Wor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333360"/>
            <a:ext cx="29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6600"/>
                </a:solidFill>
                <a:latin typeface="Times New Roman"/>
              </a:rPr>
              <a:t>with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Guus%20Meeuwis%20-%20geef%20mij%20nu%20je%20angs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606920" y="-3456000"/>
            <a:ext cx="18359280" cy="1377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167652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4000">
                <a:solidFill>
                  <a:srgbClr val="ffff00"/>
                </a:solidFill>
                <a:latin typeface="Times New Roman"/>
              </a:rPr>
              <a:t>daarom mag het wel even storm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4000">
                <a:solidFill>
                  <a:srgbClr val="ffff00"/>
                </a:solidFill>
                <a:latin typeface="Times New Roman"/>
              </a:rPr>
              <a:t>even flink tekeer ga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4038480"/>
            <a:ext cx="655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want "morgen", mor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kunnen we er weer tegena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84360" y="187020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03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esterwo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1337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Het leven is als een 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21337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die van de berg rol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514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we weten dat ie beneden aankom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4419720"/>
            <a:ext cx="876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maar elke oneffenheid</a:t>
            </a:r>
            <a:r>
              <a:rPr b="1" i="1" lang="nl-NL" sz="6000" spc="-1" strike="noStrike" baseline="8000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8098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6000" spc="-1" strike="noStrike">
                <a:solidFill>
                  <a:srgbClr val="ff00ff"/>
                </a:solidFill>
                <a:latin typeface="Times New Roman"/>
              </a:rPr>
              <a:t>zal zijn pad veranderen</a:t>
            </a:r>
            <a:r>
              <a:rPr b="1" i="1" lang="nl-NL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0" y="29275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4000">
                <a:solidFill>
                  <a:srgbClr val="ffff00"/>
                </a:solidFill>
                <a:latin typeface="Times New Roman"/>
              </a:rPr>
              <a:t>Toen de zon beg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4000">
                <a:solidFill>
                  <a:srgbClr val="ffff00"/>
                </a:solidFill>
                <a:latin typeface="Times New Roman"/>
              </a:rPr>
              <a:t>werd het weer lic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0" y="29275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0798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23208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338472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927520"/>
            <a:ext cx="5257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400" spc="-1" strike="noStrike" baseline="14000">
                <a:solidFill>
                  <a:srgbClr val="ffff00"/>
                </a:solidFill>
                <a:latin typeface="Times New Roman"/>
              </a:rPr>
              <a:t>als mijn ogen niet l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5400" spc="-1" strike="noStrike" baseline="14000">
                <a:solidFill>
                  <a:srgbClr val="ffff00"/>
                </a:solidFill>
                <a:latin typeface="Times New Roman"/>
              </a:rPr>
              <a:t>was er overal zic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392800"/>
            <a:ext cx="556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wat is er moo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dan zoveel zonnesch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927520"/>
            <a:ext cx="6019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8000">
                <a:solidFill>
                  <a:srgbClr val="ffff00"/>
                </a:solidFill>
                <a:latin typeface="Times New Roman"/>
              </a:rPr>
              <a:t>zowel buiten, als binn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18000">
                <a:solidFill>
                  <a:srgbClr val="ffff00"/>
                </a:solidFill>
                <a:latin typeface="Times New Roman"/>
              </a:rPr>
              <a:t>kan je weer vrolijk z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19810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even weg de pij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0000">
                <a:solidFill>
                  <a:srgbClr val="ffff00"/>
                </a:solidFill>
                <a:latin typeface="Times New Roman"/>
              </a:rPr>
              <a:t>even weg verdri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29275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prachtig die stral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geluk.. ik geni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160020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straks word het weer don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2000">
                <a:solidFill>
                  <a:srgbClr val="ffff00"/>
                </a:solidFill>
                <a:latin typeface="Times New Roman"/>
              </a:rPr>
              <a:t>maar ik weet voorgo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71600" y="2209680"/>
            <a:ext cx="6019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6000">
                <a:solidFill>
                  <a:srgbClr val="ffff00"/>
                </a:solidFill>
                <a:latin typeface="Times New Roman"/>
              </a:rPr>
              <a:t>morgen komt ie te teru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baseline="26000">
                <a:solidFill>
                  <a:srgbClr val="ffff00"/>
                </a:solidFill>
                <a:latin typeface="Times New Roman"/>
              </a:rPr>
              <a:t>en dat geeft weer mo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5:41:20Z</dcterms:created>
  <dc:creator>serap</dc:creator>
  <dc:description/>
  <dc:language>en-US</dc:language>
  <cp:lastModifiedBy>Smets</cp:lastModifiedBy>
  <dcterms:modified xsi:type="dcterms:W3CDTF">2011-10-22T05:24:24Z</dcterms:modified>
  <cp:revision>20</cp:revision>
  <dc:subject/>
  <dc:title>PowerPoint Sunusu</dc:title>
</cp:coreProperties>
</file>