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19.gif" ContentType="image/gif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15.jpeg" ContentType="image/jpeg"/>
  <Override PartName="/ppt/media/Guus%20Meeuwis%20-%20geef%20mij%20nu%20je%20angst.wav" ContentType="audio/x-wav"/>
  <Override PartName="/ppt/media/image18.png" ContentType="image/png"/>
  <Override PartName="/ppt/media/image7.jpeg" ContentType="image/jpeg"/>
  <Override PartName="/ppt/media/image12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AFA5-DC6C-45DB-9FB2-A7EA33B3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68D-8B87-44E8-91D2-DEDA1ECE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673-BDCA-4212-BD8A-ACF53C13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265-B09A-4A24-AAD0-95D383ED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7546-E062-4B04-99B1-538EEA66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09EF-06FE-41F9-84A9-888A8590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E72-B7F8-4A8E-9E10-729856D6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149-C1E2-477A-B934-1AF01CE6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D378-7506-4502-A202-C4CDAF4A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C0A0-0CEC-423D-A14F-DAAFC695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4A12-5C26-4472-BE0E-56F70100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3E5-22F9-4292-A8AD-E3BC8A92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C44E-9543-44C1-9B44-FF59159B0E7B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uus%20Meeuwis%20-%20geef%20mij%20nu%20je%20angs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ome.hccnet.nl/w.popken/popken2/natuur/page2.htm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7640" y="-7920"/>
            <a:ext cx="9180720" cy="6875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2997360"/>
            <a:ext cx="7315200" cy="3020040"/>
          </a:xfrm>
          <a:prstGeom prst="rect">
            <a:avLst/>
          </a:prstGeom>
          <a:solidFill>
            <a:srgbClr val="c0c0c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9600" spc="-1" strike="noStrike">
                <a:solidFill>
                  <a:srgbClr val="660066"/>
                </a:solidFill>
                <a:latin typeface="Monotype Corsiva"/>
              </a:rPr>
              <a:t>Another  Worl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333360"/>
            <a:ext cx="29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006600"/>
                </a:solidFill>
                <a:latin typeface="Times New Roman"/>
              </a:rPr>
              <a:t>with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  <p:sndAc>
      <p:stSnd>
        <p:snd r:embed="rId2" name="Guus%20Meeuwis%20-%20geef%20mij%20nu%20je%20angs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606920" y="-3456000"/>
            <a:ext cx="18359280" cy="13770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9480" y="1676520"/>
            <a:ext cx="7543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4000">
                <a:solidFill>
                  <a:srgbClr val="ffff00"/>
                </a:solidFill>
                <a:latin typeface="Times New Roman"/>
              </a:rPr>
              <a:t>daarom mag het wel even storm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4000">
                <a:solidFill>
                  <a:srgbClr val="ffff00"/>
                </a:solidFill>
                <a:latin typeface="Times New Roman"/>
              </a:rPr>
              <a:t>even flink tekeer ga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71600" y="4038480"/>
            <a:ext cx="6553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2000">
                <a:solidFill>
                  <a:srgbClr val="ffff00"/>
                </a:solidFill>
                <a:latin typeface="Times New Roman"/>
              </a:rPr>
              <a:t>want "morgen", mor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2000">
                <a:solidFill>
                  <a:srgbClr val="ffff00"/>
                </a:solidFill>
                <a:latin typeface="Times New Roman"/>
              </a:rPr>
              <a:t>kunnen we er weer tegena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304920" y="-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84360" y="1870200"/>
            <a:ext cx="595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103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esterwol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213372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6000" spc="-1" strike="noStrike">
                <a:solidFill>
                  <a:srgbClr val="ff00ff"/>
                </a:solidFill>
                <a:latin typeface="Times New Roman"/>
              </a:rPr>
              <a:t>Het leven is als een ba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71600" y="2133720"/>
            <a:ext cx="623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6000" spc="-1" strike="noStrike">
                <a:solidFill>
                  <a:srgbClr val="ff00ff"/>
                </a:solidFill>
                <a:latin typeface="Times New Roman"/>
              </a:rPr>
              <a:t>die van de berg rol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2514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6000" spc="-1" strike="noStrike">
                <a:solidFill>
                  <a:srgbClr val="ff00ff"/>
                </a:solidFill>
                <a:latin typeface="Times New Roman"/>
              </a:rPr>
              <a:t>we weten dat ie beneden aankom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3520" y="4419720"/>
            <a:ext cx="876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6000" spc="-1" strike="noStrike">
                <a:solidFill>
                  <a:srgbClr val="ff00ff"/>
                </a:solidFill>
                <a:latin typeface="Times New Roman"/>
              </a:rPr>
              <a:t>maar elke oneffenheid</a:t>
            </a:r>
            <a:r>
              <a:rPr b="1" i="1" lang="nl-NL" sz="6000" spc="-1" strike="noStrike" baseline="8000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38098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6000" spc="-1" strike="noStrike">
                <a:solidFill>
                  <a:srgbClr val="ff00ff"/>
                </a:solidFill>
                <a:latin typeface="Times New Roman"/>
              </a:rPr>
              <a:t>zal zijn pad veranderen</a:t>
            </a:r>
            <a:r>
              <a:rPr b="1" i="1" lang="nl-NL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0" y="292752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14000">
                <a:solidFill>
                  <a:srgbClr val="ffff00"/>
                </a:solidFill>
                <a:latin typeface="Times New Roman"/>
              </a:rPr>
              <a:t>Toen de zon beg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14000">
                <a:solidFill>
                  <a:srgbClr val="ffff00"/>
                </a:solidFill>
                <a:latin typeface="Times New Roman"/>
              </a:rPr>
              <a:t>werd het weer lic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0" y="2927520"/>
            <a:ext cx="457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3079800"/>
            <a:ext cx="457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3232080"/>
            <a:ext cx="457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3384720"/>
            <a:ext cx="457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927520"/>
            <a:ext cx="5257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5400" spc="-1" strike="noStrike" baseline="14000">
                <a:solidFill>
                  <a:srgbClr val="ffff00"/>
                </a:solidFill>
                <a:latin typeface="Times New Roman"/>
              </a:rPr>
              <a:t>als mijn ogen niet lo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5400" spc="-1" strike="noStrike" baseline="14000">
                <a:solidFill>
                  <a:srgbClr val="ffff00"/>
                </a:solidFill>
                <a:latin typeface="Times New Roman"/>
              </a:rPr>
              <a:t>was er overal zic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5392800"/>
            <a:ext cx="5562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0000">
                <a:solidFill>
                  <a:srgbClr val="ffff00"/>
                </a:solidFill>
                <a:latin typeface="Times New Roman"/>
              </a:rPr>
              <a:t>wat is er moo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0000">
                <a:solidFill>
                  <a:srgbClr val="ffff00"/>
                </a:solidFill>
                <a:latin typeface="Times New Roman"/>
              </a:rPr>
              <a:t>dan zoveel zonneschij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0" y="2927520"/>
            <a:ext cx="6019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18000">
                <a:solidFill>
                  <a:srgbClr val="ffff00"/>
                </a:solidFill>
                <a:latin typeface="Times New Roman"/>
              </a:rPr>
              <a:t>zowel buiten, als bin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18000">
                <a:solidFill>
                  <a:srgbClr val="ffff00"/>
                </a:solidFill>
                <a:latin typeface="Times New Roman"/>
              </a:rPr>
              <a:t>kan je weer vrolijk zij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38280" y="198108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0000">
                <a:solidFill>
                  <a:srgbClr val="ffff00"/>
                </a:solidFill>
                <a:latin typeface="Times New Roman"/>
              </a:rPr>
              <a:t>even weg de pij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0000">
                <a:solidFill>
                  <a:srgbClr val="ffff00"/>
                </a:solidFill>
                <a:latin typeface="Times New Roman"/>
              </a:rPr>
              <a:t>even weg verdri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0" y="292752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2000">
                <a:solidFill>
                  <a:srgbClr val="ffff00"/>
                </a:solidFill>
                <a:latin typeface="Times New Roman"/>
              </a:rPr>
              <a:t>prachtig die stral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2000">
                <a:solidFill>
                  <a:srgbClr val="ffff00"/>
                </a:solidFill>
                <a:latin typeface="Times New Roman"/>
              </a:rPr>
              <a:t>geluk.. ik geni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76520" y="160020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2000">
                <a:solidFill>
                  <a:srgbClr val="ffff00"/>
                </a:solidFill>
                <a:latin typeface="Times New Roman"/>
              </a:rPr>
              <a:t>straks word het weer donk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2000">
                <a:solidFill>
                  <a:srgbClr val="ffff00"/>
                </a:solidFill>
                <a:latin typeface="Times New Roman"/>
              </a:rPr>
              <a:t>maar ik weet voorgo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71600" y="2209680"/>
            <a:ext cx="6019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6000">
                <a:solidFill>
                  <a:srgbClr val="ffff00"/>
                </a:solidFill>
                <a:latin typeface="Times New Roman"/>
              </a:rPr>
              <a:t>morgen komt ie te teru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6000">
                <a:solidFill>
                  <a:srgbClr val="ffff00"/>
                </a:solidFill>
                <a:latin typeface="Times New Roman"/>
              </a:rPr>
              <a:t>en dat geeft weer mo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5:41:20Z</dcterms:created>
  <dc:creator>serap</dc:creator>
  <dc:description/>
  <dc:language>en-US</dc:language>
  <cp:lastModifiedBy>Smets</cp:lastModifiedBy>
  <dcterms:modified xsi:type="dcterms:W3CDTF">2011-10-22T05:24:24Z</dcterms:modified>
  <cp:revision>20</cp:revision>
  <dc:subject/>
  <dc:title>PowerPoint Sunusu</dc:title>
</cp:coreProperties>
</file>