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0CB-20C9-4A29-914E-71E6DF93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A42-6982-4EB3-935D-9D5EA03F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6A8-AC78-4DC0-8422-D47FACD2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B11-8AE9-497D-9F45-08387CA3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2B7E-4C5B-4C60-BCA6-28D3800B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8317-4D2E-4A27-A315-AA6A6B85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D170-F869-4943-B9A8-02435A7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B5A4-29E6-4026-B735-6B0B75DA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238-D61F-47BA-B60C-C1BD64F0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48A-0514-450E-97F8-010830B5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10C7-4D0E-4975-8A77-5BF140E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84F-C013-4078-9C67-2834D824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EEE8-B846-4508-8893-104F279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99B1-8107-4A95-A396-10985CA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72E7-A603-43C4-B834-0A227853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548A-1BD6-4DE8-B4A0-A9B2134C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DAAE-B9CC-430F-9519-6CA160E1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072A-F28D-4704-AA48-1FA7790B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02FF-82A2-4B61-A91D-34E21C0B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7767-B93E-4EC7-A4C9-A05D1DAE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A4B6-2F6C-42E7-B3A7-318FB61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BB57-0EFB-4359-A557-D6659CC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D63-FDC5-4114-820F-B543FF0C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6E10-8220-4EE6-BEB2-AC5902D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ABC3-FFCA-46B9-AA44-D6C5FAE9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4CFD-6975-4DE3-84E8-51146A4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2BB5-23C2-48BC-9C74-D6EF73B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77FF-AA7E-43E6-AF94-1060B5EF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00C5-1B87-4C20-9767-22561554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9ADF-0437-48C0-B3A7-36A76899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A5B-B7D3-48E4-B78A-EA6AE3BA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8FE-35B7-48FA-AA37-32DDF95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B24-3DD6-44F4-ABA1-31A85D0C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C45-4454-41E9-9976-84AB401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D02-82C2-428E-8C79-BE408C91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82F-5F2F-4EBE-B0BE-FC9B14F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0D0-3883-41B0-9A97-3965A755370A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451-D4EF-4FE8-9492-3C6AC0B4DBA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" name="varkom.avi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33440" cy="619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sttt"/>
          <p:cNvPicPr/>
          <p:nvPr/>
        </p:nvPicPr>
        <p:blipFill>
          <a:blip r:embed="rId3"/>
          <a:stretch/>
        </p:blipFill>
        <p:spPr>
          <a:xfrm>
            <a:off x="250920" y="33336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varkom.avi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33440" cy="61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sttt"/>
          <p:cNvPicPr/>
          <p:nvPr/>
        </p:nvPicPr>
        <p:blipFill>
          <a:blip r:embed="rId3"/>
          <a:stretch/>
        </p:blipFill>
        <p:spPr>
          <a:xfrm>
            <a:off x="25092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260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1B8C-ABB8-4A97-B2E1-C83B513DF718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94BF232F-EB12-450D-A5EC-536B991C4D8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varkom.avi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33440" cy="619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logosttt"/>
          <p:cNvPicPr/>
          <p:nvPr/>
        </p:nvPicPr>
        <p:blipFill>
          <a:blip r:embed="rId3"/>
          <a:stretch/>
        </p:blipFill>
        <p:spPr>
          <a:xfrm>
            <a:off x="25092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7200" y="6244920"/>
            <a:ext cx="260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918-7C1C-4260-81BD-F0B6AA2692D7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E1C3DCD0-63AA-4383-A2E2-E37F2F37AA3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49FA-A52B-408E-AD6E-22321E96277B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5280"/>
            <a:ext cx="3305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4FB9-5881-427C-AFBB-63041072FA2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Rectangle 6" descr=""/>
          <p:cNvPicPr/>
          <p:nvPr/>
        </p:nvPicPr>
        <p:blipFill>
          <a:blip r:embed="rId1"/>
          <a:stretch/>
        </p:blipFill>
        <p:spPr>
          <a:xfrm>
            <a:off x="676440" y="2378160"/>
            <a:ext cx="752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logosttt"/>
          <p:cNvPicPr/>
          <p:nvPr/>
        </p:nvPicPr>
        <p:blipFill>
          <a:blip r:embed="rId1"/>
          <a:stretch/>
        </p:blipFill>
        <p:spPr>
          <a:xfrm>
            <a:off x="324000" y="260280"/>
            <a:ext cx="723600" cy="828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1307880"/>
            <a:ext cx="7931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F(s) = L ( f(t) ) ada, mak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DB4F-18C7-4C3A-9E07-3FE4BE80AAE9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9BBB5950-91E8-4B56-BB89-25F78EF571E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04292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lang="id-ID" sz="3200" spc="-1" strike="noStrike">
                <a:solidFill>
                  <a:srgbClr val="000000"/>
                </a:solidFill>
                <a:latin typeface="Arial Unicode MS"/>
              </a:rPr>
              <a:t> dari Integral Fungsi</a:t>
            </a:r>
            <a:r>
              <a:rPr b="0" lang="sv-SE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6"/>
              <p:cNvSpPr txBox="1"/>
              <p:nvPr/>
            </p:nvSpPr>
            <p:spPr>
              <a:xfrm>
                <a:off x="900000" y="1739880"/>
                <a:ext cx="3456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29"/>
          <p:cNvSpPr/>
          <p:nvPr/>
        </p:nvSpPr>
        <p:spPr>
          <a:xfrm>
            <a:off x="468360" y="29638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formasi invers didapatkan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0"/>
              <p:cNvSpPr txBox="1"/>
              <p:nvPr/>
            </p:nvSpPr>
            <p:spPr>
              <a:xfrm>
                <a:off x="790560" y="3441600"/>
                <a:ext cx="32450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8" name="Text Box 32"/>
          <p:cNvSpPr/>
          <p:nvPr/>
        </p:nvSpPr>
        <p:spPr>
          <a:xfrm>
            <a:off x="611280" y="46227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tatan : Metode transformasi integral fungsi akan lebih mudah diterapkan untuk menentukan invers transformas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1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Rectangle 4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zoom dir="in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logosttt"/>
          <p:cNvPicPr/>
          <p:nvPr/>
        </p:nvPicPr>
        <p:blipFill>
          <a:blip r:embed="rId1"/>
          <a:stretch/>
        </p:blipFill>
        <p:spPr>
          <a:xfrm>
            <a:off x="250920" y="260280"/>
            <a:ext cx="723960" cy="82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Object 43"/>
              <p:cNvSpPr txBox="1"/>
              <p:nvPr/>
            </p:nvSpPr>
            <p:spPr>
              <a:xfrm>
                <a:off x="3492360" y="1700280"/>
                <a:ext cx="180036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80A-982B-4264-9E8E-DBF87B664120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C5588DD0-B746-464D-9A19-08E91040FD3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04292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ontoh : TL</a:t>
            </a:r>
            <a:r>
              <a:rPr b="1" lang="id-ID" sz="3200" spc="-1" strike="noStrike">
                <a:solidFill>
                  <a:srgbClr val="000000"/>
                </a:solidFill>
                <a:latin typeface="Arial Unicode MS"/>
              </a:rPr>
              <a:t> dari Integral Fung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Rectangle 2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971640" y="127008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oh : Tentukan invers dar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9"/>
              <p:cNvSpPr txBox="1"/>
              <p:nvPr/>
            </p:nvSpPr>
            <p:spPr>
              <a:xfrm>
                <a:off x="1042920" y="1773360"/>
                <a:ext cx="2303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Rectangle 3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31"/>
              <p:cNvSpPr txBox="1"/>
              <p:nvPr/>
            </p:nvSpPr>
            <p:spPr>
              <a:xfrm>
                <a:off x="2268360" y="2600280"/>
                <a:ext cx="230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Text Box 32"/>
          <p:cNvSpPr/>
          <p:nvPr/>
        </p:nvSpPr>
        <p:spPr>
          <a:xfrm>
            <a:off x="956520" y="28274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Text Box 33"/>
          <p:cNvSpPr/>
          <p:nvPr/>
        </p:nvSpPr>
        <p:spPr>
          <a:xfrm>
            <a:off x="4741200" y="27558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maka inversnya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5"/>
              <p:cNvSpPr txBox="1"/>
              <p:nvPr/>
            </p:nvSpPr>
            <p:spPr>
              <a:xfrm>
                <a:off x="1116000" y="3629160"/>
                <a:ext cx="2160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6" name="Text Box 36"/>
          <p:cNvSpPr/>
          <p:nvPr/>
        </p:nvSpPr>
        <p:spPr>
          <a:xfrm>
            <a:off x="3422160" y="3763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bab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8"/>
              <p:cNvSpPr txBox="1"/>
              <p:nvPr/>
            </p:nvSpPr>
            <p:spPr>
              <a:xfrm>
                <a:off x="4573440" y="3573360"/>
                <a:ext cx="19432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Text Box 39"/>
          <p:cNvSpPr/>
          <p:nvPr/>
        </p:nvSpPr>
        <p:spPr>
          <a:xfrm>
            <a:off x="6732720" y="378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k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41"/>
              <p:cNvSpPr txBox="1"/>
              <p:nvPr/>
            </p:nvSpPr>
            <p:spPr>
              <a:xfrm>
                <a:off x="1116000" y="4365720"/>
                <a:ext cx="49687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4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logosttt"/>
          <p:cNvPicPr/>
          <p:nvPr/>
        </p:nvPicPr>
        <p:blipFill>
          <a:blip r:embed="rId1"/>
          <a:stretch/>
        </p:blipFill>
        <p:spPr>
          <a:xfrm>
            <a:off x="468360" y="40464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ntukan inverse dari TL berikut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4"/>
              <p:cNvSpPr txBox="1"/>
              <p:nvPr/>
            </p:nvSpPr>
            <p:spPr>
              <a:xfrm>
                <a:off x="861840" y="5229360"/>
                <a:ext cx="3340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Date Placeholder 4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6C13-6C4A-44F7-87A9-312FC581BBCD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4F01301E-1D35-4B2F-B13A-A8BF47564D8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311120" y="47304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oal Latiha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Rectangle 2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Rectangle 3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8"/>
              <p:cNvSpPr txBox="1"/>
              <p:nvPr/>
            </p:nvSpPr>
            <p:spPr>
              <a:xfrm>
                <a:off x="839880" y="2246400"/>
                <a:ext cx="32274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4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0"/>
              <p:cNvSpPr txBox="1"/>
              <p:nvPr/>
            </p:nvSpPr>
            <p:spPr>
              <a:xfrm>
                <a:off x="878040" y="3313080"/>
                <a:ext cx="31176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2"/>
              <p:cNvSpPr txBox="1"/>
              <p:nvPr/>
            </p:nvSpPr>
            <p:spPr>
              <a:xfrm>
                <a:off x="865080" y="4221000"/>
                <a:ext cx="3706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Tabel TL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2"/>
              <p:cNvSpPr txBox="1"/>
              <p:nvPr/>
            </p:nvSpPr>
            <p:spPr>
              <a:xfrm>
                <a:off x="603360" y="4330800"/>
                <a:ext cx="22525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8ADC-51EF-4261-B022-1AC6DF0D7D75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28E82AC6-3BBA-475B-B352-BF0FDB974871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3132000" y="1268280"/>
            <a:ext cx="3600000" cy="4608000"/>
            <a:chOff x="3132000" y="1268280"/>
            <a:chExt cx="3600000" cy="4608000"/>
          </a:xfrm>
        </p:grpSpPr>
        <p:grpSp>
          <p:nvGrpSpPr>
            <p:cNvPr id="362" name="Group 5"/>
            <p:cNvGrpSpPr/>
            <p:nvPr/>
          </p:nvGrpSpPr>
          <p:grpSpPr>
            <a:xfrm>
              <a:off x="3132000" y="1268280"/>
              <a:ext cx="3600000" cy="4608000"/>
              <a:chOff x="3132000" y="1268280"/>
              <a:chExt cx="3600000" cy="4608000"/>
            </a:xfrm>
          </p:grpSpPr>
          <p:sp>
            <p:nvSpPr>
              <p:cNvPr id="363" name="Rectangle 6"/>
              <p:cNvSpPr/>
              <p:nvPr/>
            </p:nvSpPr>
            <p:spPr>
              <a:xfrm>
                <a:off x="5017680" y="519660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4" name="Rectangle 7"/>
              <p:cNvSpPr/>
              <p:nvPr/>
            </p:nvSpPr>
            <p:spPr>
              <a:xfrm>
                <a:off x="3132000" y="519660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cosh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5" name="Rectangle 8"/>
              <p:cNvSpPr/>
              <p:nvPr/>
            </p:nvSpPr>
            <p:spPr>
              <a:xfrm>
                <a:off x="5017680" y="451656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6" name="Rectangle 9"/>
              <p:cNvSpPr/>
              <p:nvPr/>
            </p:nvSpPr>
            <p:spPr>
              <a:xfrm>
                <a:off x="3132000" y="451656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sinh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7" name="Rectangle 10"/>
              <p:cNvSpPr/>
              <p:nvPr/>
            </p:nvSpPr>
            <p:spPr>
              <a:xfrm>
                <a:off x="5017680" y="3834720"/>
                <a:ext cx="171432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8" name="Rectangle 11"/>
              <p:cNvSpPr/>
              <p:nvPr/>
            </p:nvSpPr>
            <p:spPr>
              <a:xfrm>
                <a:off x="3132000" y="3834720"/>
                <a:ext cx="188568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cos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9" name="Rectangle 12"/>
              <p:cNvSpPr/>
              <p:nvPr/>
            </p:nvSpPr>
            <p:spPr>
              <a:xfrm>
                <a:off x="5017680" y="3158280"/>
                <a:ext cx="17143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0" name="Rectangle 13"/>
              <p:cNvSpPr/>
              <p:nvPr/>
            </p:nvSpPr>
            <p:spPr>
              <a:xfrm>
                <a:off x="3132000" y="3158280"/>
                <a:ext cx="1885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sin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1" name="Rectangle 14"/>
              <p:cNvSpPr/>
              <p:nvPr/>
            </p:nvSpPr>
            <p:spPr>
              <a:xfrm>
                <a:off x="5017680" y="2403000"/>
                <a:ext cx="171432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2" name="Rectangle 15"/>
              <p:cNvSpPr/>
              <p:nvPr/>
            </p:nvSpPr>
            <p:spPr>
              <a:xfrm>
                <a:off x="3132000" y="2403000"/>
                <a:ext cx="188568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at</a:t>
                </a: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3" name="Rectangle 16"/>
              <p:cNvSpPr/>
              <p:nvPr/>
            </p:nvSpPr>
            <p:spPr>
              <a:xfrm>
                <a:off x="5017680" y="1683000"/>
                <a:ext cx="17143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4" name="Rectangle 17"/>
              <p:cNvSpPr/>
              <p:nvPr/>
            </p:nvSpPr>
            <p:spPr>
              <a:xfrm>
                <a:off x="3132000" y="1683000"/>
                <a:ext cx="18856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t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 ( n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 B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+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 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5" name="Rectangle 18"/>
              <p:cNvSpPr/>
              <p:nvPr/>
            </p:nvSpPr>
            <p:spPr>
              <a:xfrm>
                <a:off x="5017680" y="1268280"/>
                <a:ext cx="17143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F ( s ) 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6" name="Rectangle 19"/>
              <p:cNvSpPr/>
              <p:nvPr/>
            </p:nvSpPr>
            <p:spPr>
              <a:xfrm>
                <a:off x="3132000" y="1268280"/>
                <a:ext cx="18856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f ( t 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7" name="Line 20"/>
              <p:cNvSpPr/>
              <p:nvPr/>
            </p:nvSpPr>
            <p:spPr>
              <a:xfrm>
                <a:off x="3132000" y="126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8" name="Line 21"/>
              <p:cNvSpPr/>
              <p:nvPr/>
            </p:nvSpPr>
            <p:spPr>
              <a:xfrm>
                <a:off x="3132000" y="5876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9" name="Line 22"/>
              <p:cNvSpPr/>
              <p:nvPr/>
            </p:nvSpPr>
            <p:spPr>
              <a:xfrm>
                <a:off x="31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0" name="Line 23"/>
              <p:cNvSpPr/>
              <p:nvPr/>
            </p:nvSpPr>
            <p:spPr>
              <a:xfrm>
                <a:off x="67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1" name="Line 24"/>
              <p:cNvSpPr/>
              <p:nvPr/>
            </p:nvSpPr>
            <p:spPr>
              <a:xfrm>
                <a:off x="3132000" y="168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2" name="Line 25"/>
              <p:cNvSpPr/>
              <p:nvPr/>
            </p:nvSpPr>
            <p:spPr>
              <a:xfrm>
                <a:off x="501768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3" name="Line 26"/>
              <p:cNvSpPr/>
              <p:nvPr/>
            </p:nvSpPr>
            <p:spPr>
              <a:xfrm>
                <a:off x="3132000" y="240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4" name="Line 27"/>
              <p:cNvSpPr/>
              <p:nvPr/>
            </p:nvSpPr>
            <p:spPr>
              <a:xfrm>
                <a:off x="3132000" y="315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5" name="Line 28"/>
              <p:cNvSpPr/>
              <p:nvPr/>
            </p:nvSpPr>
            <p:spPr>
              <a:xfrm>
                <a:off x="3132000" y="383472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6" name="Line 29"/>
              <p:cNvSpPr/>
              <p:nvPr/>
            </p:nvSpPr>
            <p:spPr>
              <a:xfrm>
                <a:off x="3132000" y="451656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7" name="Line 30"/>
              <p:cNvSpPr/>
              <p:nvPr/>
            </p:nvSpPr>
            <p:spPr>
              <a:xfrm>
                <a:off x="3132000" y="51966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8" name="Object 31"/>
                <p:cNvSpPr txBox="1"/>
                <p:nvPr/>
              </p:nvSpPr>
              <p:spPr>
                <a:xfrm>
                  <a:off x="5360400" y="1643400"/>
                  <a:ext cx="797400" cy="75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</m:t>
                          </m:r>
                          <m:r>
                            <m:t xml:space="preserve">!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32"/>
                <p:cNvSpPr txBox="1"/>
                <p:nvPr/>
              </p:nvSpPr>
              <p:spPr>
                <a:xfrm>
                  <a:off x="5446800" y="2400120"/>
                  <a:ext cx="85644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33"/>
                <p:cNvSpPr txBox="1"/>
                <p:nvPr/>
              </p:nvSpPr>
              <p:spPr>
                <a:xfrm>
                  <a:off x="5280480" y="3155040"/>
                  <a:ext cx="1107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34"/>
                <p:cNvSpPr txBox="1"/>
                <p:nvPr/>
              </p:nvSpPr>
              <p:spPr>
                <a:xfrm>
                  <a:off x="5360400" y="3835080"/>
                  <a:ext cx="111456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35"/>
                <p:cNvSpPr txBox="1"/>
                <p:nvPr/>
              </p:nvSpPr>
              <p:spPr>
                <a:xfrm>
                  <a:off x="5275080" y="4516920"/>
                  <a:ext cx="11134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Object 36"/>
                <p:cNvSpPr txBox="1"/>
                <p:nvPr/>
              </p:nvSpPr>
              <p:spPr>
                <a:xfrm>
                  <a:off x="5275080" y="5196960"/>
                  <a:ext cx="111348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4" name="Picture 37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395" name="Line 38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6652800" y="179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 &gt; 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7" name="Text Box 40"/>
          <p:cNvSpPr/>
          <p:nvPr/>
        </p:nvSpPr>
        <p:spPr>
          <a:xfrm>
            <a:off x="6673320" y="261144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 &gt; 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AutoShape 41"/>
          <p:cNvSpPr/>
          <p:nvPr/>
        </p:nvSpPr>
        <p:spPr>
          <a:xfrm>
            <a:off x="324000" y="1557360"/>
            <a:ext cx="2663640" cy="2735280"/>
          </a:xfrm>
          <a:prstGeom prst="cloudCallout">
            <a:avLst>
              <a:gd name="adj1" fmla="val -32060"/>
              <a:gd name="adj2" fmla="val 70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akan merupakan invers TL dari sebuah fungsi bil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6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1D1C-F9AD-4A9C-A355-154867C0E9D8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FDEF-D807-41DF-92FB-DFAA3FCBE6E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Rectangle 3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2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4" name="Rectangle 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828720" y="1346040"/>
            <a:ext cx="741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fungsi f(t) mempunyai transformasi Laplace,  F(s) = L ( f(t) ), maka  transformasi Laplace dari fungsi g(t)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t) adala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6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Rectangle 4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42"/>
              <p:cNvSpPr txBox="1"/>
              <p:nvPr/>
            </p:nvSpPr>
            <p:spPr>
              <a:xfrm>
                <a:off x="973080" y="2637000"/>
                <a:ext cx="4319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Rectangle 4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4"/>
              <p:cNvSpPr txBox="1"/>
              <p:nvPr/>
            </p:nvSpPr>
            <p:spPr>
              <a:xfrm>
                <a:off x="2556000" y="3645000"/>
                <a:ext cx="28796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Rectangle 4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6"/>
              <p:cNvSpPr txBox="1"/>
              <p:nvPr/>
            </p:nvSpPr>
            <p:spPr>
              <a:xfrm>
                <a:off x="5796000" y="3956040"/>
                <a:ext cx="1584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Text Box 47"/>
          <p:cNvSpPr/>
          <p:nvPr/>
        </p:nvSpPr>
        <p:spPr>
          <a:xfrm>
            <a:off x="889560" y="482760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formasi Invers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Rectangle 48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9"/>
              <p:cNvSpPr txBox="1"/>
              <p:nvPr/>
            </p:nvSpPr>
            <p:spPr>
              <a:xfrm>
                <a:off x="2700360" y="5300640"/>
                <a:ext cx="3743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١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7" name="Rectangle 5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8" name="Rectangle 5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" name="Rectangle 5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0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Rectangle 5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Rectangle 5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Rectangle 60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55" name="stttelkom.avi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ergeseran terhadap sumbu 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6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C9B0-6F6A-4574-976E-3DC7006B0763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7AA-9D24-43BF-BCEE-1FA85148D2D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971640" y="2131920"/>
                <a:ext cx="20160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3924360" y="2781360"/>
                <a:ext cx="2160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3851280" y="1916280"/>
                <a:ext cx="194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Line 6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0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1" name="Rectangle 3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2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3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826920" y="13161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TL dar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Rectangle 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8" name="Rectangle 4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Rectangle 4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Rectangle 48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51"/>
              <p:cNvSpPr txBox="1"/>
              <p:nvPr/>
            </p:nvSpPr>
            <p:spPr>
              <a:xfrm>
                <a:off x="3454560" y="1125360"/>
                <a:ext cx="2741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5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Rectangle 5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06" name="AutoShape 54"/>
          <p:cNvCxnSpPr/>
          <p:nvPr/>
        </p:nvCxnSpPr>
        <p:spPr>
          <a:xfrm flipH="1" rot="16200000">
            <a:off x="4284720" y="400500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507" name="Rectangle 5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Rectangle 57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0" name="Rectangle 5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Rectangle 5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2" name="Rectangle 60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13" name="stttelkom.avi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2"/>
          <p:cNvSpPr/>
          <p:nvPr/>
        </p:nvSpPr>
        <p:spPr>
          <a:xfrm>
            <a:off x="3282120" y="2960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5" name="Text Box 63"/>
          <p:cNvSpPr/>
          <p:nvPr/>
        </p:nvSpPr>
        <p:spPr>
          <a:xfrm>
            <a:off x="3276000" y="2133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64"/>
              <p:cNvSpPr txBox="1"/>
              <p:nvPr/>
            </p:nvSpPr>
            <p:spPr>
              <a:xfrm>
                <a:off x="1152360" y="3792600"/>
                <a:ext cx="40672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oh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18" name="AutoShape 68"/>
          <p:cNvCxnSpPr/>
          <p:nvPr/>
        </p:nvCxnSpPr>
        <p:spPr>
          <a:xfrm flipV="1">
            <a:off x="5364000" y="3082680"/>
            <a:ext cx="721440" cy="2162880"/>
          </a:xfrm>
          <a:prstGeom prst="bentConnector3">
            <a:avLst>
              <a:gd name="adj1" fmla="val 268896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9" name="Object 69"/>
              <p:cNvSpPr txBox="1"/>
              <p:nvPr/>
            </p:nvSpPr>
            <p:spPr>
              <a:xfrm>
                <a:off x="2038320" y="4976640"/>
                <a:ext cx="33256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041-9654-4927-9B73-74D78838A883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99CE-4E73-46E0-BF62-47DF4AA63EF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Rectangle 2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Rectangle 2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1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2" name="Rectangle 4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3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4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65" name="AutoShape 44"/>
          <p:cNvCxnSpPr/>
          <p:nvPr/>
        </p:nvCxnSpPr>
        <p:spPr>
          <a:xfrm flipH="1" rot="16200000">
            <a:off x="4788000" y="450972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566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46"/>
              <p:cNvSpPr txBox="1"/>
              <p:nvPr/>
            </p:nvSpPr>
            <p:spPr>
              <a:xfrm>
                <a:off x="2844720" y="1952640"/>
                <a:ext cx="1582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4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48"/>
              <p:cNvSpPr txBox="1"/>
              <p:nvPr/>
            </p:nvSpPr>
            <p:spPr>
              <a:xfrm>
                <a:off x="4570560" y="1989000"/>
                <a:ext cx="3025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0" name="Rectangle 49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1" name="Rectangle 5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1"/>
              <p:cNvSpPr txBox="1"/>
              <p:nvPr/>
            </p:nvSpPr>
            <p:spPr>
              <a:xfrm>
                <a:off x="826920" y="2781360"/>
                <a:ext cx="16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52"/>
              <p:cNvSpPr txBox="1"/>
              <p:nvPr/>
            </p:nvSpPr>
            <p:spPr>
              <a:xfrm>
                <a:off x="826920" y="3573360"/>
                <a:ext cx="16560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Rectangle 53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5" name="Text Box 54"/>
          <p:cNvSpPr/>
          <p:nvPr/>
        </p:nvSpPr>
        <p:spPr>
          <a:xfrm>
            <a:off x="2627280" y="2925720"/>
            <a:ext cx="208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 = cos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6" name="Text Box 55"/>
          <p:cNvSpPr/>
          <p:nvPr/>
        </p:nvSpPr>
        <p:spPr>
          <a:xfrm>
            <a:off x="2617560" y="3646440"/>
            <a:ext cx="184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 = - sin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7" name="Text Box 56"/>
          <p:cNvSpPr/>
          <p:nvPr/>
        </p:nvSpPr>
        <p:spPr>
          <a:xfrm>
            <a:off x="978480" y="4510080"/>
            <a:ext cx="276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(s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s+1)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s+1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8" name="Text Box 57"/>
          <p:cNvSpPr/>
          <p:nvPr/>
        </p:nvSpPr>
        <p:spPr>
          <a:xfrm>
            <a:off x="4642920" y="446256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(t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 cos t – sin t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79" name="AutoShape 58"/>
          <p:cNvCxnSpPr>
            <a:endCxn id="577" idx="1"/>
          </p:cNvCxnSpPr>
          <p:nvPr/>
        </p:nvCxnSpPr>
        <p:spPr>
          <a:xfrm flipH="1" flipV="1" rot="10800000">
            <a:off x="825840" y="2319480"/>
            <a:ext cx="72360" cy="2389320"/>
          </a:xfrm>
          <a:prstGeom prst="bentConnector3">
            <a:avLst>
              <a:gd name="adj1" fmla="val -32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80" name="stttelkom.avi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33440" cy="6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1" name="Object 60"/>
              <p:cNvSpPr txBox="1"/>
              <p:nvPr/>
            </p:nvSpPr>
            <p:spPr>
              <a:xfrm>
                <a:off x="826920" y="1989000"/>
                <a:ext cx="2016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Text Box 61"/>
          <p:cNvSpPr/>
          <p:nvPr/>
        </p:nvSpPr>
        <p:spPr>
          <a:xfrm>
            <a:off x="3993480" y="4545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1912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 Unicode MS"/>
              </a:rPr>
              <a:t>Contoh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4" name="Text Box 63"/>
          <p:cNvSpPr/>
          <p:nvPr/>
        </p:nvSpPr>
        <p:spPr>
          <a:xfrm>
            <a:off x="720360" y="148428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Invers dari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2501-AB75-4E09-97BC-361CED2DA8DB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3BB7-E750-4E19-9499-9282DD74301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"/>
              </a:rPr>
              <a:t>Soal Latihan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Tentukan Transformasi Laplace dari fungsi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Cari  f(t) bila F(s) =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5"/>
              <p:cNvSpPr txBox="1"/>
              <p:nvPr/>
            </p:nvSpPr>
            <p:spPr>
              <a:xfrm>
                <a:off x="1547640" y="2039760"/>
                <a:ext cx="194472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2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7"/>
              <p:cNvSpPr txBox="1"/>
              <p:nvPr/>
            </p:nvSpPr>
            <p:spPr>
              <a:xfrm>
                <a:off x="1547640" y="2492280"/>
                <a:ext cx="2016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9"/>
              <p:cNvSpPr txBox="1"/>
              <p:nvPr/>
            </p:nvSpPr>
            <p:spPr>
              <a:xfrm>
                <a:off x="1547640" y="3429000"/>
                <a:ext cx="1511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47640" y="4221000"/>
                <a:ext cx="16783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18D3-7742-4FE0-9321-49FAF9158DFC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FAB-2BD7-46E5-A672-8252BFF9657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1" name="Line 2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Fungsi Tangga Satuan # 1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5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7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9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Rectangle 2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4" name="Rectangle 2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9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0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3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5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6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7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Rectangle 3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Rectangle 4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Rectangle 4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3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4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5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Text Box 48"/>
          <p:cNvSpPr/>
          <p:nvPr/>
        </p:nvSpPr>
        <p:spPr>
          <a:xfrm>
            <a:off x="1042920" y="1195560"/>
            <a:ext cx="71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ungsi tangga satuan u(t) didefinisikan sbb (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0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7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50"/>
              <p:cNvSpPr txBox="1"/>
              <p:nvPr/>
            </p:nvSpPr>
            <p:spPr>
              <a:xfrm>
                <a:off x="1187280" y="1773360"/>
                <a:ext cx="3024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49" name="Group 76"/>
          <p:cNvGrpSpPr/>
          <p:nvPr/>
        </p:nvGrpSpPr>
        <p:grpSpPr>
          <a:xfrm>
            <a:off x="4284720" y="1844640"/>
            <a:ext cx="3816360" cy="2160720"/>
            <a:chOff x="4284720" y="1844640"/>
            <a:chExt cx="3816360" cy="2160720"/>
          </a:xfrm>
        </p:grpSpPr>
        <p:sp>
          <p:nvSpPr>
            <p:cNvPr id="650" name="AutoShape 52"/>
            <p:cNvSpPr/>
            <p:nvPr/>
          </p:nvSpPr>
          <p:spPr>
            <a:xfrm>
              <a:off x="4284720" y="1844640"/>
              <a:ext cx="381636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1" name="Line 53"/>
            <p:cNvSpPr/>
            <p:nvPr/>
          </p:nvSpPr>
          <p:spPr>
            <a:xfrm>
              <a:off x="4508640" y="3141720"/>
              <a:ext cx="33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2" name="Line 54"/>
            <p:cNvSpPr/>
            <p:nvPr/>
          </p:nvSpPr>
          <p:spPr>
            <a:xfrm flipV="1">
              <a:off x="4957920" y="206064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3" name="Line 55"/>
            <p:cNvSpPr/>
            <p:nvPr/>
          </p:nvSpPr>
          <p:spPr>
            <a:xfrm>
              <a:off x="5856120" y="2492280"/>
              <a:ext cx="1800" cy="64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>
              <a:off x="5856120" y="2492280"/>
              <a:ext cx="157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5" name="Line 57"/>
            <p:cNvSpPr/>
            <p:nvPr/>
          </p:nvSpPr>
          <p:spPr>
            <a:xfrm>
              <a:off x="4508640" y="3141720"/>
              <a:ext cx="134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6" name="Text Box 58"/>
            <p:cNvSpPr/>
            <p:nvPr/>
          </p:nvSpPr>
          <p:spPr>
            <a:xfrm>
              <a:off x="5724360" y="3213000"/>
              <a:ext cx="675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7" name="Text Box 59"/>
            <p:cNvSpPr/>
            <p:nvPr/>
          </p:nvSpPr>
          <p:spPr>
            <a:xfrm>
              <a:off x="4689360" y="2347920"/>
              <a:ext cx="674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H="1">
              <a:off x="4957560" y="249696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659" name="Text Box 61"/>
          <p:cNvSpPr/>
          <p:nvPr/>
        </p:nvSpPr>
        <p:spPr>
          <a:xfrm>
            <a:off x="1042920" y="4005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L ( f(t) ) = F(s) dan diberikan fungs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(t) = f(t-a) u(t-a), maka TL dari g(t), G(s) ditentukan sebagai berikut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1244160" y="5300640"/>
            <a:ext cx="46263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(s) = L [ f(t-a) u(t-a) ]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(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1" name="Rectangle 6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2" name="Rectangle 6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3" name="Rectangle 7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Rectangle 7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5" name="stttelkom.avi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338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8BE4-D350-40F9-8FA6-64F3FA29ADED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0C09-6239-4F01-881E-A3B1C6C8568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9" name="Line 2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Fungsi Tangga Satua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9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0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1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2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3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4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7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8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9" name="Rectangle 2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0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2" name="Rectangle 2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6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7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8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9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1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3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4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8" name="Rectangle 4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9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0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1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2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3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4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5" name="Text Box 63"/>
          <p:cNvSpPr/>
          <p:nvPr/>
        </p:nvSpPr>
        <p:spPr>
          <a:xfrm>
            <a:off x="1230480" y="1220760"/>
            <a:ext cx="36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formasi invers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s) ] = f(t-a) u(t-a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1162440" y="230184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L dari u(t-a) ?  Ambil f(t-a) = 1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7" name="Text Box 65"/>
          <p:cNvSpPr/>
          <p:nvPr/>
        </p:nvSpPr>
        <p:spPr>
          <a:xfrm>
            <a:off x="1186920" y="287640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1 dan F(s) = 1/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8" name="Rectangle 6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67"/>
              <p:cNvSpPr txBox="1"/>
              <p:nvPr/>
            </p:nvSpPr>
            <p:spPr>
              <a:xfrm>
                <a:off x="1332000" y="3500280"/>
                <a:ext cx="21603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Rectangle 6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69"/>
              <p:cNvSpPr txBox="1"/>
              <p:nvPr/>
            </p:nvSpPr>
            <p:spPr>
              <a:xfrm>
                <a:off x="1332000" y="4508640"/>
                <a:ext cx="29527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Rectangle 7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23" name="stttelkom.avi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33800" cy="61920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76"/>
          <p:cNvSpPr/>
          <p:nvPr/>
        </p:nvSpPr>
        <p:spPr>
          <a:xfrm>
            <a:off x="5033520" y="1341360"/>
            <a:ext cx="37425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 [ f(t-a) u(t-a) ]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(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logosttt"/>
          <p:cNvPicPr/>
          <p:nvPr/>
        </p:nvPicPr>
        <p:blipFill>
          <a:blip r:embed="rId1"/>
          <a:stretch/>
        </p:blipFill>
        <p:spPr>
          <a:xfrm>
            <a:off x="395280" y="33192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187280" y="1557360"/>
            <a:ext cx="705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ransformasi Laplace dari Turunan Fungsi Tingkat-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salah Nilai Aw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 Unicode MS"/>
              </a:rPr>
              <a:t>Transformasi Laplace dari Integral Fungsi</a:t>
            </a: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Pergeseran terhadap sumbu 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ungsi Tangga satua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4EA-8D2B-456D-8441-5833D3ADF6E2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153DCC46-B8C7-43E3-A28D-F81376FDE4E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95480" y="333360"/>
            <a:ext cx="75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 Unicode MS"/>
              </a:rPr>
              <a:t>Transformasi Laplace dari Turunan dan Integral Fungsi</a:t>
            </a: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4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A36F-A770-4CFC-9567-4391B6EF2C68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AF99-F21B-4623-AF59-DC43AAD9AC9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2"/>
              <p:cNvSpPr txBox="1"/>
              <p:nvPr/>
            </p:nvSpPr>
            <p:spPr>
              <a:xfrm>
                <a:off x="1979640" y="2349360"/>
                <a:ext cx="2087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Contoh # 1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0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0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1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4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5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8" name="Rectangle 4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9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0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1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72" name="stttelkom.avi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58"/>
          <p:cNvSpPr/>
          <p:nvPr/>
        </p:nvSpPr>
        <p:spPr>
          <a:xfrm>
            <a:off x="1023840" y="1341360"/>
            <a:ext cx="67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ntukan TL dari fungsi g( t ) = t u( t -2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4" name="Text Box 59"/>
          <p:cNvSpPr/>
          <p:nvPr/>
        </p:nvSpPr>
        <p:spPr>
          <a:xfrm>
            <a:off x="993600" y="19162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kan f(t-2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5" name="Text Box 60"/>
          <p:cNvSpPr/>
          <p:nvPr/>
        </p:nvSpPr>
        <p:spPr>
          <a:xfrm>
            <a:off x="349092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maka f(t) = t + 2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1053000" y="2492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62"/>
              <p:cNvSpPr txBox="1"/>
              <p:nvPr/>
            </p:nvSpPr>
            <p:spPr>
              <a:xfrm>
                <a:off x="1187280" y="4844880"/>
                <a:ext cx="37436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8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9" name="Text Box 67"/>
          <p:cNvSpPr/>
          <p:nvPr/>
        </p:nvSpPr>
        <p:spPr>
          <a:xfrm>
            <a:off x="1217160" y="3322800"/>
            <a:ext cx="37425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 [ f(t-a) u(t-a) ]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(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0" name="AutoShape 68"/>
          <p:cNvSpPr/>
          <p:nvPr/>
        </p:nvSpPr>
        <p:spPr>
          <a:xfrm rot="16200000">
            <a:off x="2771640" y="4076280"/>
            <a:ext cx="576360" cy="576360"/>
          </a:xfrm>
          <a:prstGeom prst="lef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1" name="AutoShape 69"/>
          <p:cNvSpPr/>
          <p:nvPr/>
        </p:nvSpPr>
        <p:spPr>
          <a:xfrm>
            <a:off x="6084720" y="3141720"/>
            <a:ext cx="2303640" cy="1008000"/>
          </a:xfrm>
          <a:prstGeom prst="wedgeRoundRectCallout">
            <a:avLst>
              <a:gd name="adj1" fmla="val -92662"/>
              <a:gd name="adj2" fmla="val -130157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bstitusikan y = t – 2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4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A23-2981-4BDF-ACC3-C1BA829A7C4E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159-8467-44B8-9DF9-E5D0A1F5B30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5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Contoh # 2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0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1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2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3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6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7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8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9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0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1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3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4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5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6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7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2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3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7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9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0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1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2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3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4" name="Rectangle 4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5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6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7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9" name="Text Box 48"/>
          <p:cNvSpPr/>
          <p:nvPr/>
        </p:nvSpPr>
        <p:spPr>
          <a:xfrm>
            <a:off x="953640" y="11970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Invers dar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49"/>
              <p:cNvSpPr txBox="1"/>
              <p:nvPr/>
            </p:nvSpPr>
            <p:spPr>
              <a:xfrm>
                <a:off x="4140360" y="942840"/>
                <a:ext cx="20905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50"/>
              <p:cNvSpPr txBox="1"/>
              <p:nvPr/>
            </p:nvSpPr>
            <p:spPr>
              <a:xfrm>
                <a:off x="1187280" y="1916280"/>
                <a:ext cx="2305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51"/>
              <p:cNvSpPr txBox="1"/>
              <p:nvPr/>
            </p:nvSpPr>
            <p:spPr>
              <a:xfrm>
                <a:off x="4427640" y="2708280"/>
                <a:ext cx="2376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3" name="Text Box 52"/>
          <p:cNvSpPr/>
          <p:nvPr/>
        </p:nvSpPr>
        <p:spPr>
          <a:xfrm>
            <a:off x="3707640" y="2133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Object 53"/>
              <p:cNvSpPr txBox="1"/>
              <p:nvPr/>
            </p:nvSpPr>
            <p:spPr>
              <a:xfrm>
                <a:off x="1258920" y="5013360"/>
                <a:ext cx="4176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Object 54"/>
              <p:cNvSpPr txBox="1"/>
              <p:nvPr/>
            </p:nvSpPr>
            <p:spPr>
              <a:xfrm>
                <a:off x="4356000" y="1903320"/>
                <a:ext cx="28083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6" name="Text Box 55"/>
          <p:cNvSpPr/>
          <p:nvPr/>
        </p:nvSpPr>
        <p:spPr>
          <a:xfrm>
            <a:off x="3778920" y="2997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7" name="Text Box 56"/>
          <p:cNvSpPr/>
          <p:nvPr/>
        </p:nvSpPr>
        <p:spPr>
          <a:xfrm>
            <a:off x="1306800" y="4245120"/>
            <a:ext cx="36648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s) ] = f(t-a) u(t-a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38" name="stttelkom.avi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3"/>
          <p:cNvSpPr/>
          <p:nvPr/>
        </p:nvSpPr>
        <p:spPr>
          <a:xfrm>
            <a:off x="3778920" y="3679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0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Object 65"/>
              <p:cNvSpPr txBox="1"/>
              <p:nvPr/>
            </p:nvSpPr>
            <p:spPr>
              <a:xfrm>
                <a:off x="4500720" y="3500280"/>
                <a:ext cx="2950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842" name="AutoShape 66"/>
          <p:cNvCxnSpPr>
            <a:endCxn id="837" idx="3"/>
          </p:cNvCxnSpPr>
          <p:nvPr/>
        </p:nvCxnSpPr>
        <p:spPr>
          <a:xfrm flipH="1">
            <a:off x="5019120" y="2270160"/>
            <a:ext cx="2145240" cy="2208960"/>
          </a:xfrm>
          <a:prstGeom prst="bentConnector3">
            <a:avLst>
              <a:gd name="adj1" fmla="val -34776"/>
            </a:avLst>
          </a:prstGeom>
          <a:ln w="19080">
            <a:solidFill>
              <a:srgbClr val="e01b0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F1D2-E356-4ED2-A278-2102E8318257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D9C8-2DEF-4DE7-B72D-63979488F71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oal Latihan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Gambarkan grafik fungsi berikut dan tentukan transformasiny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 u( t - 1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u( t - 1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Fungsi berikut didefinisikan bernilai 0 untuk nilai di luar interval yang diberikan. Gambar grafik dan tentukan transformasi Laplaceny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 ( 0 &lt; t &lt; 2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( 0 &lt; t &lt; 3 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69B3-A139-4149-B041-AA68987FC4DB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B843-FED1-47D1-B02F-6FD5BB59A02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51" name="Rectangle 6" descr=""/>
          <p:cNvPicPr/>
          <p:nvPr/>
        </p:nvPicPr>
        <p:blipFill>
          <a:blip r:embed="rId1"/>
          <a:stretch/>
        </p:blipFill>
        <p:spPr>
          <a:xfrm>
            <a:off x="549360" y="944640"/>
            <a:ext cx="8034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 Unicode MS"/>
              </a:rPr>
              <a:t>Sasaran Pembelajaran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yelesaikan persamaan diferensial menggunakan transformasi Lapla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cari invers transformasi Lapla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ggunakan prinsip pergeseran sumbu untuk mencari transformasi Lapla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Syarat kelulusan 100%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DEBF-CDFA-441D-8290-5E283EF88611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5537-5004-46E9-9D11-B56480A9157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00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Misal fungsi f(t) dan turunannya kontinu dan terbatas eksponensial, maka f(t) dan f ’(t)  mempunyai transformasi Lapl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ransformasi Laplace dari turunan orde n  fungsi f(t) ditentukan sebagai berikut 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3817800" y="3141720"/>
                <a:ext cx="29498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∞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r>
                      <m:t xml:space="preserve">s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0"/>
              <p:cNvSpPr txBox="1"/>
              <p:nvPr/>
            </p:nvSpPr>
            <p:spPr>
              <a:xfrm>
                <a:off x="905040" y="4035600"/>
                <a:ext cx="29415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9CC-91C6-456B-8154-BBBB7A8100C4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43FC9A22-0BE1-4FC7-9BC2-4B20737D0A9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11600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 Unicode MS"/>
              </a:rPr>
              <a:t>TL dari turunan fungsi tingkat-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900000" y="3141720"/>
                <a:ext cx="2664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4140360" y="3933720"/>
                <a:ext cx="403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900000" y="4581360"/>
                <a:ext cx="4176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900000" y="5157720"/>
                <a:ext cx="568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06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lakukan penurunan sampai tingkat ke –2  didapatka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 a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 0 ) = 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 ‘ (t) = a cos 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 ‘ ( 0 ) = 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 “ (t) = -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n 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 “(0) = 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38F5-0C54-41FD-8DE2-1E12586E52DF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DA2AA509-62FC-4A8B-B197-53C72F58593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1600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 Unicode MS"/>
              </a:rPr>
              <a:t>Tentukan TL dari f(t) = sin 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8"/>
              <p:cNvSpPr txBox="1"/>
              <p:nvPr/>
            </p:nvSpPr>
            <p:spPr>
              <a:xfrm>
                <a:off x="684360" y="3068640"/>
                <a:ext cx="3673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0"/>
              <p:cNvSpPr txBox="1"/>
              <p:nvPr/>
            </p:nvSpPr>
            <p:spPr>
              <a:xfrm>
                <a:off x="684360" y="3645000"/>
                <a:ext cx="5760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a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2"/>
              <p:cNvSpPr txBox="1"/>
              <p:nvPr/>
            </p:nvSpPr>
            <p:spPr>
              <a:xfrm>
                <a:off x="684360" y="4221000"/>
                <a:ext cx="3457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24"/>
          <p:cNvSpPr/>
          <p:nvPr/>
        </p:nvSpPr>
        <p:spPr>
          <a:xfrm>
            <a:off x="672120" y="51325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vers Transformasi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5"/>
              <p:cNvSpPr txBox="1"/>
              <p:nvPr/>
            </p:nvSpPr>
            <p:spPr>
              <a:xfrm>
                <a:off x="4067280" y="4979880"/>
                <a:ext cx="3816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31640" y="1412640"/>
            <a:ext cx="7272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TL dari fungsi berikut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 2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cos 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 ( t – 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cos ( t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co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B123-8FAE-42DA-87C3-E57B52B23A79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9EBAA698-FB39-4123-A8F1-C978B1B518C7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58920" y="333360"/>
            <a:ext cx="73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oal Latiha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entuk persamaan diferensial  koefisien konstan dengan nilai awal  dinamakan masalah nilai awal. Contoh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ngan mengasumsikan    y(t) = f(t) maka didapatkan rumusa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4596-7244-4BC5-B400-5D0A236FB768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FF463074-9FBD-4E84-8592-46E3D4BE8417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11600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Masalah Nilai Aw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6"/>
              <p:cNvSpPr txBox="1"/>
              <p:nvPr/>
            </p:nvSpPr>
            <p:spPr>
              <a:xfrm>
                <a:off x="890640" y="2521080"/>
                <a:ext cx="3186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+by'+cy=r \( t \) 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}  {} # 
 size 12{y \( 0 \) =k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y' \( 0 \) =m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8"/>
              <p:cNvSpPr txBox="1"/>
              <p:nvPr/>
            </p:nvSpPr>
            <p:spPr>
              <a:xfrm>
                <a:off x="971640" y="4667400"/>
                <a:ext cx="3384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0"/>
              <p:cNvSpPr txBox="1"/>
              <p:nvPr/>
            </p:nvSpPr>
            <p:spPr>
              <a:xfrm>
                <a:off x="971640" y="5294160"/>
                <a:ext cx="4392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2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221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9C5-9B0D-403D-B30D-A851D3FD441B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786E165C-DC63-4D70-B88A-D43275727F3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333360"/>
            <a:ext cx="75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entukan Solusi Masalah Nilai Aw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682560" y="1413000"/>
                <a:ext cx="6481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+3y'+2y=t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;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y \( 0 \) = - 1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,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y' \( 0 \) =0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2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826920" y="2133720"/>
                <a:ext cx="3673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5"/>
              <p:cNvSpPr txBox="1"/>
              <p:nvPr/>
            </p:nvSpPr>
            <p:spPr>
              <a:xfrm>
                <a:off x="826920" y="2852640"/>
                <a:ext cx="4608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7"/>
              <p:cNvSpPr txBox="1"/>
              <p:nvPr/>
            </p:nvSpPr>
            <p:spPr>
              <a:xfrm>
                <a:off x="5580000" y="2637000"/>
                <a:ext cx="3024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8"/>
              <p:cNvSpPr txBox="1"/>
              <p:nvPr/>
            </p:nvSpPr>
            <p:spPr>
              <a:xfrm>
                <a:off x="900000" y="3716280"/>
                <a:ext cx="4967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Rectangle 2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0"/>
              <p:cNvSpPr txBox="1"/>
              <p:nvPr/>
            </p:nvSpPr>
            <p:spPr>
              <a:xfrm>
                <a:off x="900000" y="4797360"/>
                <a:ext cx="45356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oal Latihan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entukan solusi masalah nilai awal berikut 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”+ 2 y ’- 8y = 0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0, y ‘(0) = 6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+ 4y = 1 – 2 t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y ‘(0) = 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– 2 y ‘ – 3y = 1,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1 , y ‘(0) = 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+ 4y = 0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-1 , y ‘(0) = 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 - 4y =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</a:rPr>
              <a:t>2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= 0, y ‘(0) =1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– 4 y ‘ = sin t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y ‘ (0) = 0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7AA-ABA1-458E-AA2E-A31E99733BDD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9E2CCED6-771F-4F92-8D07-93D17006849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0" name="Picture 4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6:23:08Z</dcterms:created>
  <dc:creator>Danang</dc:creator>
  <dc:description/>
  <dc:language>en-US</dc:language>
  <cp:lastModifiedBy>Toshiba</cp:lastModifiedBy>
  <dcterms:modified xsi:type="dcterms:W3CDTF">2012-01-30T09:03:01Z</dcterms:modified>
  <cp:revision>82</cp:revision>
  <dc:subject/>
  <dc:title>Slide 1</dc:title>
</cp:coreProperties>
</file>