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AD8-DE72-4620-9894-C6771D52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F50-3F17-46D2-A8F7-7BB11E74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6AB-CCAC-465C-AABE-CB8B7EE1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B45-AFE6-4139-8312-54670716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2D54-2438-4C00-A8F0-E12EB45C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CEF-CCD2-4BBB-BAD4-221C4410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A32D-CBA4-420E-B9FF-FE2D1069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5CDD-9807-4D88-B131-742B5F5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4462-B15A-4A51-8954-6A1C1A9F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0B4F-842E-41B4-8747-A89C99E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67AE-32F0-40B6-AA7F-57D5B21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FF5-AF8D-4F7A-90E8-B397E5FD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8A8A-8D06-41E0-8576-3B616BB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A91B-EF6C-49E4-9A13-62ACC94B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6A49-5F93-423F-B8A8-8D0B166D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C2A7-6D04-4660-B071-05490C77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1AD1-73B4-4072-81E9-B7DA3A6D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7B2A-7E3B-413B-8DB8-6226AE76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8DBF-1556-42B2-9DBD-E244A271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51EE-4828-4ECA-A53B-AAA24B7D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8F12-DB79-45AD-94B8-B59B96AF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F466-6DFE-46A2-9E4E-BAED4DB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069-5566-4672-907A-45B13A0B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AFE7-FF2C-40D1-B29F-E0516A55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32B4-C4ED-4C38-A5B1-62DC35B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A3DB-1B6B-493B-A27E-28A3E85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461F-ADB0-451B-B1D8-0CBD8F2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CA7E-B901-4139-AC81-F07DA3E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37A8-8FED-4CFC-AD3F-61CE9017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A9FE-4536-4183-8B5B-6BC2D392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FC9-1D9D-4252-86DC-D1F2491E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F80-C26F-444E-BD1E-E500A815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649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52E-4C74-4A02-BE7E-A5813960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34E-8012-4396-9663-4A1FEFF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DF1-3771-4E55-899B-9C880E1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D6B-C4D2-4049-B685-26F41066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53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D5E5-7205-4B00-A207-A8E3DE8B5C0E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55E1-DAD2-4C98-83C2-1BC4A3FCC6C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" name="varkom.avi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33440" cy="619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logosttt"/>
          <p:cNvPicPr/>
          <p:nvPr/>
        </p:nvPicPr>
        <p:blipFill>
          <a:blip r:embed="rId3"/>
          <a:stretch/>
        </p:blipFill>
        <p:spPr>
          <a:xfrm>
            <a:off x="250920" y="33336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varkom.avi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33440" cy="61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ogosttt"/>
          <p:cNvPicPr/>
          <p:nvPr/>
        </p:nvPicPr>
        <p:blipFill>
          <a:blip r:embed="rId3"/>
          <a:stretch/>
        </p:blipFill>
        <p:spPr>
          <a:xfrm>
            <a:off x="25092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260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B1A5-56C1-47C7-A52D-B0388DF009BF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A2C0C6C5-B6EE-41FE-B1B4-FD9D22C2011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varkom.avi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333440" cy="619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logosttt"/>
          <p:cNvPicPr/>
          <p:nvPr/>
        </p:nvPicPr>
        <p:blipFill>
          <a:blip r:embed="rId3"/>
          <a:stretch/>
        </p:blipFill>
        <p:spPr>
          <a:xfrm>
            <a:off x="25092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7200" y="6244920"/>
            <a:ext cx="260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B488-7B85-45FA-892D-3759D8A67A36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3AC7111C-6C50-448D-ADFD-2EB0545383BB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0F28-2ECE-4B69-B9F3-2DD003385D46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5280"/>
            <a:ext cx="3305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A489-EF00-4EFD-A99E-C84D8763A4E5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Rectangle 6" descr=""/>
          <p:cNvPicPr/>
          <p:nvPr/>
        </p:nvPicPr>
        <p:blipFill>
          <a:blip r:embed="rId1"/>
          <a:stretch/>
        </p:blipFill>
        <p:spPr>
          <a:xfrm>
            <a:off x="676440" y="2378160"/>
            <a:ext cx="752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logosttt"/>
          <p:cNvPicPr/>
          <p:nvPr/>
        </p:nvPicPr>
        <p:blipFill>
          <a:blip r:embed="rId1"/>
          <a:stretch/>
        </p:blipFill>
        <p:spPr>
          <a:xfrm>
            <a:off x="324000" y="260280"/>
            <a:ext cx="723600" cy="8287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1307880"/>
            <a:ext cx="79311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F(s) = L ( f(t) ) ada, mak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DAE0-73B3-4143-B767-5431F518960D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A686C6E2-7B93-4FF3-A459-DF6DE5F7741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04292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lang="id-ID" sz="3200" spc="-1" strike="noStrike">
                <a:solidFill>
                  <a:srgbClr val="000000"/>
                </a:solidFill>
                <a:latin typeface="Arial Unicode MS"/>
              </a:rPr>
              <a:t> dari Integral Fungsi</a:t>
            </a:r>
            <a:r>
              <a:rPr b="0" lang="sv-SE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6"/>
              <p:cNvSpPr txBox="1"/>
              <p:nvPr/>
            </p:nvSpPr>
            <p:spPr>
              <a:xfrm>
                <a:off x="900000" y="1739880"/>
                <a:ext cx="3456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Text Box 29"/>
          <p:cNvSpPr/>
          <p:nvPr/>
        </p:nvSpPr>
        <p:spPr>
          <a:xfrm>
            <a:off x="468360" y="29638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formasi invers didapatkan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0"/>
              <p:cNvSpPr txBox="1"/>
              <p:nvPr/>
            </p:nvSpPr>
            <p:spPr>
              <a:xfrm>
                <a:off x="790560" y="3441600"/>
                <a:ext cx="32450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8" name="Text Box 32"/>
          <p:cNvSpPr/>
          <p:nvPr/>
        </p:nvSpPr>
        <p:spPr>
          <a:xfrm>
            <a:off x="611280" y="46227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tatan : Metode transformasi integral fungsi akan lebih mudah diterapkan untuk menentukan invers transformas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Rectangle 3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1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Rectangle 4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zoom dir="in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logosttt"/>
          <p:cNvPicPr/>
          <p:nvPr/>
        </p:nvPicPr>
        <p:blipFill>
          <a:blip r:embed="rId1"/>
          <a:stretch/>
        </p:blipFill>
        <p:spPr>
          <a:xfrm>
            <a:off x="250920" y="260280"/>
            <a:ext cx="723960" cy="82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Object 43"/>
              <p:cNvSpPr txBox="1"/>
              <p:nvPr/>
            </p:nvSpPr>
            <p:spPr>
              <a:xfrm>
                <a:off x="3492360" y="1700280"/>
                <a:ext cx="180036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EF35-81A8-47A3-AC14-E8D21325FC07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B5D36FA4-665E-4FA8-AF84-4E011BDAB84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04292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ontoh : TL</a:t>
            </a:r>
            <a:r>
              <a:rPr b="1" lang="id-ID" sz="3200" spc="-1" strike="noStrike">
                <a:solidFill>
                  <a:srgbClr val="000000"/>
                </a:solidFill>
                <a:latin typeface="Arial Unicode MS"/>
              </a:rPr>
              <a:t> dari Integral Fung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Rectangle 2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971640" y="127008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oh : Tentukan invers dar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9"/>
              <p:cNvSpPr txBox="1"/>
              <p:nvPr/>
            </p:nvSpPr>
            <p:spPr>
              <a:xfrm>
                <a:off x="1042920" y="1773360"/>
                <a:ext cx="2303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Rectangle 3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31"/>
              <p:cNvSpPr txBox="1"/>
              <p:nvPr/>
            </p:nvSpPr>
            <p:spPr>
              <a:xfrm>
                <a:off x="2268360" y="2600280"/>
                <a:ext cx="230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Text Box 32"/>
          <p:cNvSpPr/>
          <p:nvPr/>
        </p:nvSpPr>
        <p:spPr>
          <a:xfrm>
            <a:off x="956520" y="28274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Text Box 33"/>
          <p:cNvSpPr/>
          <p:nvPr/>
        </p:nvSpPr>
        <p:spPr>
          <a:xfrm>
            <a:off x="4741200" y="27558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maka inversnya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5"/>
              <p:cNvSpPr txBox="1"/>
              <p:nvPr/>
            </p:nvSpPr>
            <p:spPr>
              <a:xfrm>
                <a:off x="1116000" y="3629160"/>
                <a:ext cx="2160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6" name="Text Box 36"/>
          <p:cNvSpPr/>
          <p:nvPr/>
        </p:nvSpPr>
        <p:spPr>
          <a:xfrm>
            <a:off x="3422160" y="3763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bab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8"/>
              <p:cNvSpPr txBox="1"/>
              <p:nvPr/>
            </p:nvSpPr>
            <p:spPr>
              <a:xfrm>
                <a:off x="4573440" y="3573360"/>
                <a:ext cx="19432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Text Box 39"/>
          <p:cNvSpPr/>
          <p:nvPr/>
        </p:nvSpPr>
        <p:spPr>
          <a:xfrm>
            <a:off x="6732720" y="378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k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41"/>
              <p:cNvSpPr txBox="1"/>
              <p:nvPr/>
            </p:nvSpPr>
            <p:spPr>
              <a:xfrm>
                <a:off x="1116000" y="4365720"/>
                <a:ext cx="49687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4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logosttt"/>
          <p:cNvPicPr/>
          <p:nvPr/>
        </p:nvPicPr>
        <p:blipFill>
          <a:blip r:embed="rId1"/>
          <a:stretch/>
        </p:blipFill>
        <p:spPr>
          <a:xfrm>
            <a:off x="468360" y="40464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ntukan inverse dari TL berikut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4"/>
              <p:cNvSpPr txBox="1"/>
              <p:nvPr/>
            </p:nvSpPr>
            <p:spPr>
              <a:xfrm>
                <a:off x="861840" y="5229360"/>
                <a:ext cx="3340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Date Placeholder 4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D778-6C56-461A-A1EE-F44314A2C07E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3903D854-352C-48C9-9AE2-937EA6E7FC2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311120" y="47304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oal Latiha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Rectangle 2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Rectangle 3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8"/>
              <p:cNvSpPr txBox="1"/>
              <p:nvPr/>
            </p:nvSpPr>
            <p:spPr>
              <a:xfrm>
                <a:off x="839880" y="2246400"/>
                <a:ext cx="32274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4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0"/>
              <p:cNvSpPr txBox="1"/>
              <p:nvPr/>
            </p:nvSpPr>
            <p:spPr>
              <a:xfrm>
                <a:off x="878040" y="3313080"/>
                <a:ext cx="31176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2"/>
              <p:cNvSpPr txBox="1"/>
              <p:nvPr/>
            </p:nvSpPr>
            <p:spPr>
              <a:xfrm>
                <a:off x="865080" y="4221000"/>
                <a:ext cx="3706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Tabel TL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2"/>
              <p:cNvSpPr txBox="1"/>
              <p:nvPr/>
            </p:nvSpPr>
            <p:spPr>
              <a:xfrm>
                <a:off x="603360" y="4330800"/>
                <a:ext cx="22525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EF4B-3D5C-4FDC-8CAC-74265E8A4BF5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5D8CA883-1374-4CA1-8792-D0CDBD969FE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3132000" y="1268280"/>
            <a:ext cx="3600000" cy="4608000"/>
            <a:chOff x="3132000" y="1268280"/>
            <a:chExt cx="3600000" cy="4608000"/>
          </a:xfrm>
        </p:grpSpPr>
        <p:grpSp>
          <p:nvGrpSpPr>
            <p:cNvPr id="362" name="Group 5"/>
            <p:cNvGrpSpPr/>
            <p:nvPr/>
          </p:nvGrpSpPr>
          <p:grpSpPr>
            <a:xfrm>
              <a:off x="3132000" y="1268280"/>
              <a:ext cx="3600000" cy="4608000"/>
              <a:chOff x="3132000" y="1268280"/>
              <a:chExt cx="3600000" cy="4608000"/>
            </a:xfrm>
          </p:grpSpPr>
          <p:sp>
            <p:nvSpPr>
              <p:cNvPr id="363" name="Rectangle 6"/>
              <p:cNvSpPr/>
              <p:nvPr/>
            </p:nvSpPr>
            <p:spPr>
              <a:xfrm>
                <a:off x="5017680" y="519660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4" name="Rectangle 7"/>
              <p:cNvSpPr/>
              <p:nvPr/>
            </p:nvSpPr>
            <p:spPr>
              <a:xfrm>
                <a:off x="3132000" y="519660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cosh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5" name="Rectangle 8"/>
              <p:cNvSpPr/>
              <p:nvPr/>
            </p:nvSpPr>
            <p:spPr>
              <a:xfrm>
                <a:off x="5017680" y="451656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6" name="Rectangle 9"/>
              <p:cNvSpPr/>
              <p:nvPr/>
            </p:nvSpPr>
            <p:spPr>
              <a:xfrm>
                <a:off x="3132000" y="451656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sinh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7" name="Rectangle 10"/>
              <p:cNvSpPr/>
              <p:nvPr/>
            </p:nvSpPr>
            <p:spPr>
              <a:xfrm>
                <a:off x="5017680" y="3834720"/>
                <a:ext cx="171432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8" name="Rectangle 11"/>
              <p:cNvSpPr/>
              <p:nvPr/>
            </p:nvSpPr>
            <p:spPr>
              <a:xfrm>
                <a:off x="3132000" y="3834720"/>
                <a:ext cx="188568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cos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69" name="Rectangle 12"/>
              <p:cNvSpPr/>
              <p:nvPr/>
            </p:nvSpPr>
            <p:spPr>
              <a:xfrm>
                <a:off x="5017680" y="3158280"/>
                <a:ext cx="17143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0" name="Rectangle 13"/>
              <p:cNvSpPr/>
              <p:nvPr/>
            </p:nvSpPr>
            <p:spPr>
              <a:xfrm>
                <a:off x="3132000" y="3158280"/>
                <a:ext cx="1885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sin bt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1" name="Rectangle 14"/>
              <p:cNvSpPr/>
              <p:nvPr/>
            </p:nvSpPr>
            <p:spPr>
              <a:xfrm>
                <a:off x="5017680" y="2403000"/>
                <a:ext cx="171432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2" name="Rectangle 15"/>
              <p:cNvSpPr/>
              <p:nvPr/>
            </p:nvSpPr>
            <p:spPr>
              <a:xfrm>
                <a:off x="3132000" y="2403000"/>
                <a:ext cx="188568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at</a:t>
                </a: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3" name="Rectangle 16"/>
              <p:cNvSpPr/>
              <p:nvPr/>
            </p:nvSpPr>
            <p:spPr>
              <a:xfrm>
                <a:off x="5017680" y="1683000"/>
                <a:ext cx="17143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4" name="Rectangle 17"/>
              <p:cNvSpPr/>
              <p:nvPr/>
            </p:nvSpPr>
            <p:spPr>
              <a:xfrm>
                <a:off x="3132000" y="1683000"/>
                <a:ext cx="18856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t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 ( n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 B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+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 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5" name="Rectangle 18"/>
              <p:cNvSpPr/>
              <p:nvPr/>
            </p:nvSpPr>
            <p:spPr>
              <a:xfrm>
                <a:off x="5017680" y="1268280"/>
                <a:ext cx="17143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F ( s ) 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6" name="Rectangle 19"/>
              <p:cNvSpPr/>
              <p:nvPr/>
            </p:nvSpPr>
            <p:spPr>
              <a:xfrm>
                <a:off x="3132000" y="1268280"/>
                <a:ext cx="18856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 Antiqua"/>
                    <a:ea typeface="Times New Roman"/>
                  </a:rPr>
                  <a:t>f ( t 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7" name="Line 20"/>
              <p:cNvSpPr/>
              <p:nvPr/>
            </p:nvSpPr>
            <p:spPr>
              <a:xfrm>
                <a:off x="3132000" y="126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8" name="Line 21"/>
              <p:cNvSpPr/>
              <p:nvPr/>
            </p:nvSpPr>
            <p:spPr>
              <a:xfrm>
                <a:off x="3132000" y="5876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9" name="Line 22"/>
              <p:cNvSpPr/>
              <p:nvPr/>
            </p:nvSpPr>
            <p:spPr>
              <a:xfrm>
                <a:off x="31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0" name="Line 23"/>
              <p:cNvSpPr/>
              <p:nvPr/>
            </p:nvSpPr>
            <p:spPr>
              <a:xfrm>
                <a:off x="67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1" name="Line 24"/>
              <p:cNvSpPr/>
              <p:nvPr/>
            </p:nvSpPr>
            <p:spPr>
              <a:xfrm>
                <a:off x="3132000" y="168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2" name="Line 25"/>
              <p:cNvSpPr/>
              <p:nvPr/>
            </p:nvSpPr>
            <p:spPr>
              <a:xfrm>
                <a:off x="501768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3" name="Line 26"/>
              <p:cNvSpPr/>
              <p:nvPr/>
            </p:nvSpPr>
            <p:spPr>
              <a:xfrm>
                <a:off x="3132000" y="240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4" name="Line 27"/>
              <p:cNvSpPr/>
              <p:nvPr/>
            </p:nvSpPr>
            <p:spPr>
              <a:xfrm>
                <a:off x="3132000" y="315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5" name="Line 28"/>
              <p:cNvSpPr/>
              <p:nvPr/>
            </p:nvSpPr>
            <p:spPr>
              <a:xfrm>
                <a:off x="3132000" y="383472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6" name="Line 29"/>
              <p:cNvSpPr/>
              <p:nvPr/>
            </p:nvSpPr>
            <p:spPr>
              <a:xfrm>
                <a:off x="3132000" y="451656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7" name="Line 30"/>
              <p:cNvSpPr/>
              <p:nvPr/>
            </p:nvSpPr>
            <p:spPr>
              <a:xfrm>
                <a:off x="3132000" y="51966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88" name="Object 31"/>
                <p:cNvSpPr txBox="1"/>
                <p:nvPr/>
              </p:nvSpPr>
              <p:spPr>
                <a:xfrm>
                  <a:off x="5360400" y="1643400"/>
                  <a:ext cx="797400" cy="75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</m:t>
                          </m:r>
                          <m:r>
                            <m:t xml:space="preserve">!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32"/>
                <p:cNvSpPr txBox="1"/>
                <p:nvPr/>
              </p:nvSpPr>
              <p:spPr>
                <a:xfrm>
                  <a:off x="5446800" y="2400120"/>
                  <a:ext cx="85644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33"/>
                <p:cNvSpPr txBox="1"/>
                <p:nvPr/>
              </p:nvSpPr>
              <p:spPr>
                <a:xfrm>
                  <a:off x="5280480" y="3155040"/>
                  <a:ext cx="1107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34"/>
                <p:cNvSpPr txBox="1"/>
                <p:nvPr/>
              </p:nvSpPr>
              <p:spPr>
                <a:xfrm>
                  <a:off x="5360400" y="3835080"/>
                  <a:ext cx="111456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35"/>
                <p:cNvSpPr txBox="1"/>
                <p:nvPr/>
              </p:nvSpPr>
              <p:spPr>
                <a:xfrm>
                  <a:off x="5275080" y="4516920"/>
                  <a:ext cx="11134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Object 36"/>
                <p:cNvSpPr txBox="1"/>
                <p:nvPr/>
              </p:nvSpPr>
              <p:spPr>
                <a:xfrm>
                  <a:off x="5275080" y="5196960"/>
                  <a:ext cx="111348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4" name="Picture 37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395" name="Line 38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6652800" y="179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 &gt; 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7" name="Text Box 40"/>
          <p:cNvSpPr/>
          <p:nvPr/>
        </p:nvSpPr>
        <p:spPr>
          <a:xfrm>
            <a:off x="6673320" y="261144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 &gt; 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AutoShape 41"/>
          <p:cNvSpPr/>
          <p:nvPr/>
        </p:nvSpPr>
        <p:spPr>
          <a:xfrm>
            <a:off x="324000" y="1557360"/>
            <a:ext cx="2663640" cy="2735280"/>
          </a:xfrm>
          <a:prstGeom prst="cloudCallout">
            <a:avLst>
              <a:gd name="adj1" fmla="val -32060"/>
              <a:gd name="adj2" fmla="val 70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akan merupakan invers TL dari sebuah fungsi bil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6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150A-8FF6-4AB2-847F-C8C8E9207D33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6440-3A61-4F7E-9BE0-1FEE556F552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7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Rectangle 2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Rectangle 2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Rectangle 2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Rectangle 3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2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4" name="Rectangle 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828720" y="1346040"/>
            <a:ext cx="741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fungsi f(t) mempunyai transformasi Laplace,  F(s) = L ( f(t) ), maka  transformasi Laplace dari fungsi g(t)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t) adala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6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Rectangle 4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42"/>
              <p:cNvSpPr txBox="1"/>
              <p:nvPr/>
            </p:nvSpPr>
            <p:spPr>
              <a:xfrm>
                <a:off x="973080" y="2637000"/>
                <a:ext cx="4319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Rectangle 4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4"/>
              <p:cNvSpPr txBox="1"/>
              <p:nvPr/>
            </p:nvSpPr>
            <p:spPr>
              <a:xfrm>
                <a:off x="2556000" y="3645000"/>
                <a:ext cx="287964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Rectangle 4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6"/>
              <p:cNvSpPr txBox="1"/>
              <p:nvPr/>
            </p:nvSpPr>
            <p:spPr>
              <a:xfrm>
                <a:off x="5796000" y="3956040"/>
                <a:ext cx="1584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Text Box 47"/>
          <p:cNvSpPr/>
          <p:nvPr/>
        </p:nvSpPr>
        <p:spPr>
          <a:xfrm>
            <a:off x="889560" y="482760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formasi Invers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Rectangle 48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9"/>
              <p:cNvSpPr txBox="1"/>
              <p:nvPr/>
            </p:nvSpPr>
            <p:spPr>
              <a:xfrm>
                <a:off x="2700360" y="5300640"/>
                <a:ext cx="3743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١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7" name="Rectangle 5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8" name="Rectangle 5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" name="Rectangle 5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0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Rectangle 5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Rectangle 5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Rectangle 60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55" name="stttelkom.avi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ergeseran terhadap sumbu 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6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4684-4E08-4C3C-95B8-441BD3A0F8B7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3CF4-37AE-4CEB-9684-811962AB40A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971640" y="2131920"/>
                <a:ext cx="20160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3924360" y="2781360"/>
                <a:ext cx="2160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3851280" y="1916280"/>
                <a:ext cx="194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Line 6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0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1" name="Rectangle 3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2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3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826920" y="13161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TL dar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Rectangle 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8" name="Rectangle 4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Rectangle 4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Rectangle 48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51"/>
              <p:cNvSpPr txBox="1"/>
              <p:nvPr/>
            </p:nvSpPr>
            <p:spPr>
              <a:xfrm>
                <a:off x="3454560" y="1125360"/>
                <a:ext cx="2741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5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Rectangle 5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06" name="AutoShape 54"/>
          <p:cNvCxnSpPr/>
          <p:nvPr/>
        </p:nvCxnSpPr>
        <p:spPr>
          <a:xfrm flipH="1" rot="16200000">
            <a:off x="4284720" y="400500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507" name="Rectangle 5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Rectangle 5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Rectangle 57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0" name="Rectangle 5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Rectangle 5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2" name="Rectangle 60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13" name="stttelkom.avi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62"/>
          <p:cNvSpPr/>
          <p:nvPr/>
        </p:nvSpPr>
        <p:spPr>
          <a:xfrm>
            <a:off x="3282120" y="2960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5" name="Text Box 63"/>
          <p:cNvSpPr/>
          <p:nvPr/>
        </p:nvSpPr>
        <p:spPr>
          <a:xfrm>
            <a:off x="3276000" y="2133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64"/>
              <p:cNvSpPr txBox="1"/>
              <p:nvPr/>
            </p:nvSpPr>
            <p:spPr>
              <a:xfrm>
                <a:off x="1152360" y="3792600"/>
                <a:ext cx="40672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oh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18" name="AutoShape 68"/>
          <p:cNvCxnSpPr/>
          <p:nvPr/>
        </p:nvCxnSpPr>
        <p:spPr>
          <a:xfrm flipV="1">
            <a:off x="5364000" y="3082680"/>
            <a:ext cx="721440" cy="2162880"/>
          </a:xfrm>
          <a:prstGeom prst="bentConnector3">
            <a:avLst>
              <a:gd name="adj1" fmla="val 268896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9" name="Object 69"/>
              <p:cNvSpPr txBox="1"/>
              <p:nvPr/>
            </p:nvSpPr>
            <p:spPr>
              <a:xfrm>
                <a:off x="2038320" y="4976640"/>
                <a:ext cx="33256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56C-00A3-440D-85A8-8D2B2632572A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A3D-C129-4EBB-8B58-4CAB60C4247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3" name="Rectangle 2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Rectangle 2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Rectangle 2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1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2" name="Rectangle 4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3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4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65" name="AutoShape 44"/>
          <p:cNvCxnSpPr/>
          <p:nvPr/>
        </p:nvCxnSpPr>
        <p:spPr>
          <a:xfrm flipH="1" rot="16200000">
            <a:off x="4788000" y="450972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566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46"/>
              <p:cNvSpPr txBox="1"/>
              <p:nvPr/>
            </p:nvSpPr>
            <p:spPr>
              <a:xfrm>
                <a:off x="2844720" y="1952640"/>
                <a:ext cx="1582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4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48"/>
              <p:cNvSpPr txBox="1"/>
              <p:nvPr/>
            </p:nvSpPr>
            <p:spPr>
              <a:xfrm>
                <a:off x="4570560" y="1989000"/>
                <a:ext cx="3025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0" name="Rectangle 49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1" name="Rectangle 5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1"/>
              <p:cNvSpPr txBox="1"/>
              <p:nvPr/>
            </p:nvSpPr>
            <p:spPr>
              <a:xfrm>
                <a:off x="826920" y="2781360"/>
                <a:ext cx="16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52"/>
              <p:cNvSpPr txBox="1"/>
              <p:nvPr/>
            </p:nvSpPr>
            <p:spPr>
              <a:xfrm>
                <a:off x="826920" y="3573360"/>
                <a:ext cx="16560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Rectangle 53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5" name="Text Box 54"/>
          <p:cNvSpPr/>
          <p:nvPr/>
        </p:nvSpPr>
        <p:spPr>
          <a:xfrm>
            <a:off x="2627280" y="2925720"/>
            <a:ext cx="208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 = cos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6" name="Text Box 55"/>
          <p:cNvSpPr/>
          <p:nvPr/>
        </p:nvSpPr>
        <p:spPr>
          <a:xfrm>
            <a:off x="2617560" y="3646440"/>
            <a:ext cx="184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 = - sin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7" name="Text Box 56"/>
          <p:cNvSpPr/>
          <p:nvPr/>
        </p:nvSpPr>
        <p:spPr>
          <a:xfrm>
            <a:off x="978480" y="4510080"/>
            <a:ext cx="276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(s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s+1)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s+1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8" name="Text Box 57"/>
          <p:cNvSpPr/>
          <p:nvPr/>
        </p:nvSpPr>
        <p:spPr>
          <a:xfrm>
            <a:off x="4642920" y="446256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(t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( cos t – sin t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79" name="AutoShape 58"/>
          <p:cNvCxnSpPr>
            <a:endCxn id="577" idx="1"/>
          </p:cNvCxnSpPr>
          <p:nvPr/>
        </p:nvCxnSpPr>
        <p:spPr>
          <a:xfrm flipH="1" flipV="1" rot="10800000">
            <a:off x="825840" y="2319480"/>
            <a:ext cx="72360" cy="2389320"/>
          </a:xfrm>
          <a:prstGeom prst="bentConnector3">
            <a:avLst>
              <a:gd name="adj1" fmla="val -32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80" name="stttelkom.avi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33440" cy="6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1" name="Object 60"/>
              <p:cNvSpPr txBox="1"/>
              <p:nvPr/>
            </p:nvSpPr>
            <p:spPr>
              <a:xfrm>
                <a:off x="826920" y="1989000"/>
                <a:ext cx="2016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Text Box 61"/>
          <p:cNvSpPr/>
          <p:nvPr/>
        </p:nvSpPr>
        <p:spPr>
          <a:xfrm>
            <a:off x="3993480" y="4545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1912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Unicode MS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 Unicode MS"/>
              </a:rPr>
              <a:t>Contoh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4" name="Text Box 63"/>
          <p:cNvSpPr/>
          <p:nvPr/>
        </p:nvSpPr>
        <p:spPr>
          <a:xfrm>
            <a:off x="720360" y="148428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Invers dari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E828-B230-4802-971C-7090449BB0AA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9B15-1894-4AC1-AFDE-9DF51CFF11A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"/>
              </a:rPr>
              <a:t>Soal Latihan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Tentukan Transformasi Laplace dari fungsi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Cari  f(t) bila F(s) =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249200" indent="-53316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5"/>
              <p:cNvSpPr txBox="1"/>
              <p:nvPr/>
            </p:nvSpPr>
            <p:spPr>
              <a:xfrm>
                <a:off x="1547640" y="2039760"/>
                <a:ext cx="194472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2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7"/>
              <p:cNvSpPr txBox="1"/>
              <p:nvPr/>
            </p:nvSpPr>
            <p:spPr>
              <a:xfrm>
                <a:off x="1547640" y="2492280"/>
                <a:ext cx="2016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9"/>
              <p:cNvSpPr txBox="1"/>
              <p:nvPr/>
            </p:nvSpPr>
            <p:spPr>
              <a:xfrm>
                <a:off x="1547640" y="3429000"/>
                <a:ext cx="1511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6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47640" y="4221000"/>
                <a:ext cx="16783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A53-5531-468E-B7A8-3E314B486077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7E0-54AB-4E57-A785-8C6E663B1E7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1" name="Line 2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Fungsi Tangga Satuan # 1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5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7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9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Rectangle 2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4" name="Rectangle 2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9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0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3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5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6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7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Rectangle 3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Rectangle 4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Rectangle 4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3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4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5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Text Box 48"/>
          <p:cNvSpPr/>
          <p:nvPr/>
        </p:nvSpPr>
        <p:spPr>
          <a:xfrm>
            <a:off x="1042920" y="1195560"/>
            <a:ext cx="71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ungsi tangga satuan u(t) didefinisikan sbb (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0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7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50"/>
              <p:cNvSpPr txBox="1"/>
              <p:nvPr/>
            </p:nvSpPr>
            <p:spPr>
              <a:xfrm>
                <a:off x="1187280" y="1773360"/>
                <a:ext cx="3024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49" name="Group 76"/>
          <p:cNvGrpSpPr/>
          <p:nvPr/>
        </p:nvGrpSpPr>
        <p:grpSpPr>
          <a:xfrm>
            <a:off x="4284720" y="1844640"/>
            <a:ext cx="3816360" cy="2160720"/>
            <a:chOff x="4284720" y="1844640"/>
            <a:chExt cx="3816360" cy="2160720"/>
          </a:xfrm>
        </p:grpSpPr>
        <p:sp>
          <p:nvSpPr>
            <p:cNvPr id="650" name="AutoShape 52"/>
            <p:cNvSpPr/>
            <p:nvPr/>
          </p:nvSpPr>
          <p:spPr>
            <a:xfrm>
              <a:off x="4284720" y="1844640"/>
              <a:ext cx="381636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1" name="Line 53"/>
            <p:cNvSpPr/>
            <p:nvPr/>
          </p:nvSpPr>
          <p:spPr>
            <a:xfrm>
              <a:off x="4508640" y="3141720"/>
              <a:ext cx="33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2" name="Line 54"/>
            <p:cNvSpPr/>
            <p:nvPr/>
          </p:nvSpPr>
          <p:spPr>
            <a:xfrm flipV="1">
              <a:off x="4957920" y="206064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3" name="Line 55"/>
            <p:cNvSpPr/>
            <p:nvPr/>
          </p:nvSpPr>
          <p:spPr>
            <a:xfrm>
              <a:off x="5856120" y="2492280"/>
              <a:ext cx="1800" cy="64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>
              <a:off x="5856120" y="2492280"/>
              <a:ext cx="157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5" name="Line 57"/>
            <p:cNvSpPr/>
            <p:nvPr/>
          </p:nvSpPr>
          <p:spPr>
            <a:xfrm>
              <a:off x="4508640" y="3141720"/>
              <a:ext cx="134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6" name="Text Box 58"/>
            <p:cNvSpPr/>
            <p:nvPr/>
          </p:nvSpPr>
          <p:spPr>
            <a:xfrm>
              <a:off x="5724360" y="3213000"/>
              <a:ext cx="675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7" name="Text Box 59"/>
            <p:cNvSpPr/>
            <p:nvPr/>
          </p:nvSpPr>
          <p:spPr>
            <a:xfrm>
              <a:off x="4689360" y="2347920"/>
              <a:ext cx="6746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H="1">
              <a:off x="4957560" y="2496960"/>
              <a:ext cx="898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659" name="Text Box 61"/>
          <p:cNvSpPr/>
          <p:nvPr/>
        </p:nvSpPr>
        <p:spPr>
          <a:xfrm>
            <a:off x="1042920" y="4005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 L ( f(t) ) = F(s) dan diberikan fungs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(t) = f(t-a) u(t-a), maka TL dari g(t), G(s) ditentukan sebagai berikut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1244160" y="5300640"/>
            <a:ext cx="46263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(s) = L [ f(t-a) u(t-a) ]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(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1" name="Rectangle 6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2" name="Rectangle 6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3" name="Rectangle 7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Rectangle 7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65" name="stttelkom.avi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338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6C18-4227-4273-87EE-7626C68111D4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11A7-FB62-408A-A0C7-AC53A80278B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9" name="Line 2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Fungsi Tangga Satua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7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9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0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1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2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3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4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7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8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9" name="Rectangle 2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0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2" name="Rectangle 2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6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7" name="Rectangle 3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8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9" name="Rectangle 3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1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3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4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8" name="Rectangle 4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9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0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1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2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3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4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5" name="Text Box 63"/>
          <p:cNvSpPr/>
          <p:nvPr/>
        </p:nvSpPr>
        <p:spPr>
          <a:xfrm>
            <a:off x="1230480" y="1220760"/>
            <a:ext cx="36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ransformasi invers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s) ] = f(t-a) u(t-a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1162440" y="230184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L dari u(t-a) ?  Ambil f(t-a) = 1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7" name="Text Box 65"/>
          <p:cNvSpPr/>
          <p:nvPr/>
        </p:nvSpPr>
        <p:spPr>
          <a:xfrm>
            <a:off x="1186920" y="287640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1 dan F(s) = 1/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8" name="Rectangle 6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67"/>
              <p:cNvSpPr txBox="1"/>
              <p:nvPr/>
            </p:nvSpPr>
            <p:spPr>
              <a:xfrm>
                <a:off x="1332000" y="3500280"/>
                <a:ext cx="21603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Rectangle 6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69"/>
              <p:cNvSpPr txBox="1"/>
              <p:nvPr/>
            </p:nvSpPr>
            <p:spPr>
              <a:xfrm>
                <a:off x="1332000" y="4508640"/>
                <a:ext cx="29527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Rectangle 7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23" name="stttelkom.avi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33800" cy="61920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76"/>
          <p:cNvSpPr/>
          <p:nvPr/>
        </p:nvSpPr>
        <p:spPr>
          <a:xfrm>
            <a:off x="5033520" y="1341360"/>
            <a:ext cx="37425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 [ f(t-a) u(t-a) ]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(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logosttt"/>
          <p:cNvPicPr/>
          <p:nvPr/>
        </p:nvPicPr>
        <p:blipFill>
          <a:blip r:embed="rId1"/>
          <a:stretch/>
        </p:blipFill>
        <p:spPr>
          <a:xfrm>
            <a:off x="395280" y="33192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187280" y="1557360"/>
            <a:ext cx="705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ransformasi Laplace dari Turunan Fungsi Tingkat-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salah Nilai Aw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 Unicode MS"/>
              </a:rPr>
              <a:t>Transformasi Laplace dari Integral Fungsi</a:t>
            </a: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Pergeseran terhadap sumbu 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ungsi Tangga satua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47E8-71A1-4684-BD29-1AC729EE84DD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418BB965-176D-4CD8-A94C-F8065061D27B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95480" y="333360"/>
            <a:ext cx="75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 Unicode MS"/>
              </a:rPr>
              <a:t>Transformasi Laplace dari Turunan dan Integral Fungsi</a:t>
            </a: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4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449A-4A3C-477D-AC2B-E0CD33963BB9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43D2-50C4-4DAD-8584-E5DDEF82601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2"/>
              <p:cNvSpPr txBox="1"/>
              <p:nvPr/>
            </p:nvSpPr>
            <p:spPr>
              <a:xfrm>
                <a:off x="1979640" y="2349360"/>
                <a:ext cx="2087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Contoh # 1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0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0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1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4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5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8" name="Rectangle 4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9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0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1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72" name="stttelkom.avi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58"/>
          <p:cNvSpPr/>
          <p:nvPr/>
        </p:nvSpPr>
        <p:spPr>
          <a:xfrm>
            <a:off x="1023840" y="1341360"/>
            <a:ext cx="67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ntukan TL dari fungsi g( t ) = t u( t -2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4" name="Text Box 59"/>
          <p:cNvSpPr/>
          <p:nvPr/>
        </p:nvSpPr>
        <p:spPr>
          <a:xfrm>
            <a:off x="993600" y="19162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salkan f(t-2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5" name="Text Box 60"/>
          <p:cNvSpPr/>
          <p:nvPr/>
        </p:nvSpPr>
        <p:spPr>
          <a:xfrm>
            <a:off x="3490920" y="191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maka f(t) = t + 2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1053000" y="2492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62"/>
              <p:cNvSpPr txBox="1"/>
              <p:nvPr/>
            </p:nvSpPr>
            <p:spPr>
              <a:xfrm>
                <a:off x="1187280" y="4844880"/>
                <a:ext cx="37436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8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9" name="Text Box 67"/>
          <p:cNvSpPr/>
          <p:nvPr/>
        </p:nvSpPr>
        <p:spPr>
          <a:xfrm>
            <a:off x="1217160" y="3322800"/>
            <a:ext cx="37425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 [ f(t-a) u(t-a) ]</a:t>
            </a:r>
            <a:r>
              <a:rPr b="0" lang="ar-SA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Unicode MS"/>
                <a:ea typeface="Arial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(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0" name="AutoShape 68"/>
          <p:cNvSpPr/>
          <p:nvPr/>
        </p:nvSpPr>
        <p:spPr>
          <a:xfrm rot="16200000">
            <a:off x="2771640" y="4076280"/>
            <a:ext cx="576360" cy="576360"/>
          </a:xfrm>
          <a:prstGeom prst="lef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1" name="AutoShape 69"/>
          <p:cNvSpPr/>
          <p:nvPr/>
        </p:nvSpPr>
        <p:spPr>
          <a:xfrm>
            <a:off x="6084720" y="3141720"/>
            <a:ext cx="2303640" cy="1008000"/>
          </a:xfrm>
          <a:prstGeom prst="wedgeRoundRectCallout">
            <a:avLst>
              <a:gd name="adj1" fmla="val -92662"/>
              <a:gd name="adj2" fmla="val -130157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bstitusikan y = t – 2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4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0871-749B-4A09-957E-10D2894A06DA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2C13-4806-4014-98A6-7AF267522EE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5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1042920" y="33336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Unicode MS"/>
                <a:ea typeface="Arial"/>
              </a:rPr>
              <a:t>Contoh # 2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0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1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2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3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6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7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8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9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0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1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3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4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5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6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7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2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3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7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9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0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1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2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3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4" name="Rectangle 42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5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6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7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9" name="Text Box 48"/>
          <p:cNvSpPr/>
          <p:nvPr/>
        </p:nvSpPr>
        <p:spPr>
          <a:xfrm>
            <a:off x="953640" y="11970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Invers dari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49"/>
              <p:cNvSpPr txBox="1"/>
              <p:nvPr/>
            </p:nvSpPr>
            <p:spPr>
              <a:xfrm>
                <a:off x="4140360" y="942840"/>
                <a:ext cx="20905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50"/>
              <p:cNvSpPr txBox="1"/>
              <p:nvPr/>
            </p:nvSpPr>
            <p:spPr>
              <a:xfrm>
                <a:off x="1187280" y="1916280"/>
                <a:ext cx="2305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51"/>
              <p:cNvSpPr txBox="1"/>
              <p:nvPr/>
            </p:nvSpPr>
            <p:spPr>
              <a:xfrm>
                <a:off x="4427640" y="2708280"/>
                <a:ext cx="2376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3" name="Text Box 52"/>
          <p:cNvSpPr/>
          <p:nvPr/>
        </p:nvSpPr>
        <p:spPr>
          <a:xfrm>
            <a:off x="3707640" y="2133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Object 53"/>
              <p:cNvSpPr txBox="1"/>
              <p:nvPr/>
            </p:nvSpPr>
            <p:spPr>
              <a:xfrm>
                <a:off x="1258920" y="5013360"/>
                <a:ext cx="4176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Object 54"/>
              <p:cNvSpPr txBox="1"/>
              <p:nvPr/>
            </p:nvSpPr>
            <p:spPr>
              <a:xfrm>
                <a:off x="4356000" y="1903320"/>
                <a:ext cx="28083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6" name="Text Box 55"/>
          <p:cNvSpPr/>
          <p:nvPr/>
        </p:nvSpPr>
        <p:spPr>
          <a:xfrm>
            <a:off x="3778920" y="2997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7" name="Text Box 56"/>
          <p:cNvSpPr/>
          <p:nvPr/>
        </p:nvSpPr>
        <p:spPr>
          <a:xfrm>
            <a:off x="1306800" y="4245120"/>
            <a:ext cx="36648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[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-a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s) ] = f(t-a) u(t-a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38" name="stttelkom.avi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63"/>
          <p:cNvSpPr/>
          <p:nvPr/>
        </p:nvSpPr>
        <p:spPr>
          <a:xfrm>
            <a:off x="3778920" y="3679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0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Object 65"/>
              <p:cNvSpPr txBox="1"/>
              <p:nvPr/>
            </p:nvSpPr>
            <p:spPr>
              <a:xfrm>
                <a:off x="4500720" y="3500280"/>
                <a:ext cx="2950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842" name="AutoShape 66"/>
          <p:cNvCxnSpPr>
            <a:endCxn id="837" idx="3"/>
          </p:cNvCxnSpPr>
          <p:nvPr/>
        </p:nvCxnSpPr>
        <p:spPr>
          <a:xfrm flipH="1">
            <a:off x="5019120" y="2270160"/>
            <a:ext cx="2145240" cy="2208960"/>
          </a:xfrm>
          <a:prstGeom prst="bentConnector3">
            <a:avLst>
              <a:gd name="adj1" fmla="val -34776"/>
            </a:avLst>
          </a:prstGeom>
          <a:ln w="19080">
            <a:solidFill>
              <a:srgbClr val="e01b0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0018-BCA9-4BD3-AD47-469153688A70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F31B-7D70-4C05-92AD-13D89F04B65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oal Latihan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Gambarkan grafik fungsi berikut dan tentukan transformasiny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 u( t - 1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u( t - 1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Fungsi berikut didefinisikan bernilai 0 untuk nilai di luar interval yang diberikan. Gambar grafik dan tentukan transformasi Laplaceny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 ( 0 &lt; t &lt; 2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1700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( 0 &lt; t &lt; 3 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0F86-4BA3-4C90-AE65-393AE7FD544B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5D1F-EFD6-4461-B23D-1077A6B59A0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51" name="Rectangle 6" descr=""/>
          <p:cNvPicPr/>
          <p:nvPr/>
        </p:nvPicPr>
        <p:blipFill>
          <a:blip r:embed="rId1"/>
          <a:stretch/>
        </p:blipFill>
        <p:spPr>
          <a:xfrm>
            <a:off x="549360" y="944640"/>
            <a:ext cx="8034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 Unicode MS"/>
              </a:rPr>
              <a:t>Sasaran Pembelajaran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yelesaikan persamaan diferensial menggunakan transformasi Lapla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cari invers transformasi Lapla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ggunakan prinsip pergeseran sumbu untuk mencari transformasi Laplac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 algn="just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Syarat kelulusan 100%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458-36AE-46A8-9D1A-4E4C8372118B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11B-83F0-46C9-911E-EF46DD410C7B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002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Misal fungsi f(t) dan turunannya kontinu dan terbatas eksponensial, maka f(t) dan f ’(t)  mempunyai transformasi Lapla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ransformasi Laplace dari turunan orde n  fungsi f(t) ditentukan sebagai berikut 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3817800" y="3141720"/>
                <a:ext cx="29498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∞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r>
                      <m:t xml:space="preserve">s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0"/>
              <p:cNvSpPr txBox="1"/>
              <p:nvPr/>
            </p:nvSpPr>
            <p:spPr>
              <a:xfrm>
                <a:off x="905040" y="4035600"/>
                <a:ext cx="29415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F2AF-035A-4F89-BBCF-63E04828DE5E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DC31099E-654F-4A91-B6CA-7DBFCC83890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11600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 Unicode MS"/>
              </a:rPr>
              <a:t>TL dari turunan fungsi tingkat-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900000" y="3141720"/>
                <a:ext cx="2664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4140360" y="3933720"/>
                <a:ext cx="403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900000" y="4581360"/>
                <a:ext cx="41767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900000" y="5157720"/>
                <a:ext cx="568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06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lakukan penurunan sampai tingkat ke –2  didapatka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 a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( 0 ) = 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 ‘ (t) = a cos 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 ‘ ( 0 ) = 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6680" indent="-24264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 “ (t) = -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n 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f “(0) = 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FB27-B528-4859-868C-5D2AD39CC723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9720843B-26E0-4458-9F5D-99CAD43965A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1600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 Unicode MS"/>
              </a:rPr>
              <a:t>Tentukan TL dari f(t) = sin 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8"/>
              <p:cNvSpPr txBox="1"/>
              <p:nvPr/>
            </p:nvSpPr>
            <p:spPr>
              <a:xfrm>
                <a:off x="684360" y="3068640"/>
                <a:ext cx="3673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2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0"/>
              <p:cNvSpPr txBox="1"/>
              <p:nvPr/>
            </p:nvSpPr>
            <p:spPr>
              <a:xfrm>
                <a:off x="684360" y="3645000"/>
                <a:ext cx="5760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a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2"/>
              <p:cNvSpPr txBox="1"/>
              <p:nvPr/>
            </p:nvSpPr>
            <p:spPr>
              <a:xfrm>
                <a:off x="684360" y="4221000"/>
                <a:ext cx="3457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24"/>
          <p:cNvSpPr/>
          <p:nvPr/>
        </p:nvSpPr>
        <p:spPr>
          <a:xfrm>
            <a:off x="672120" y="51325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vers Transformasi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5"/>
              <p:cNvSpPr txBox="1"/>
              <p:nvPr/>
            </p:nvSpPr>
            <p:spPr>
              <a:xfrm>
                <a:off x="4067280" y="4979880"/>
                <a:ext cx="3816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31640" y="1412640"/>
            <a:ext cx="7272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TL dari fungsi berikut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 2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cos 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 ( t – 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cos ( t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co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8D1D-AE08-41EB-8E93-291E94EFEB33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3B3CC659-67D9-415E-AA74-51991520B31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58920" y="333360"/>
            <a:ext cx="73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oal Latihan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entuk persamaan diferensial  koefisien konstan dengan nilai awal  dinamakan masalah nilai awal. Contoh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ngan mengasumsikan    y(t) = f(t) maka didapatkan rumusan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40C2-6B1F-4F19-807F-FE553C6AF888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36B906DB-D2B0-418E-809F-FB12E47D2E6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116000" y="33336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Masalah Nilai Awa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6"/>
              <p:cNvSpPr txBox="1"/>
              <p:nvPr/>
            </p:nvSpPr>
            <p:spPr>
              <a:xfrm>
                <a:off x="890640" y="2521080"/>
                <a:ext cx="3186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+by'+cy=r \( t \) 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}  {} # 
 size 12{y \( 0 \) =k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,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y' \( 0 \) =m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8"/>
              <p:cNvSpPr txBox="1"/>
              <p:nvPr/>
            </p:nvSpPr>
            <p:spPr>
              <a:xfrm>
                <a:off x="971640" y="4667400"/>
                <a:ext cx="3384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0"/>
              <p:cNvSpPr txBox="1"/>
              <p:nvPr/>
            </p:nvSpPr>
            <p:spPr>
              <a:xfrm>
                <a:off x="971640" y="5294160"/>
                <a:ext cx="4392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2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  <p:sp>
        <p:nvSpPr>
          <p:cNvPr id="221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E878-073B-46A1-B394-AE9F600C3E72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D2E92256-9874-4F2D-8FA1-36309ADE342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333360"/>
            <a:ext cx="75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entukan Solusi Masalah Nilai Aw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682560" y="1413000"/>
                <a:ext cx="6481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+3y'+2y=t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;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y \( 0 \) = - 1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,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y' \( 0 \) =0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2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826920" y="2133720"/>
                <a:ext cx="3673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5"/>
              <p:cNvSpPr txBox="1"/>
              <p:nvPr/>
            </p:nvSpPr>
            <p:spPr>
              <a:xfrm>
                <a:off x="826920" y="2852640"/>
                <a:ext cx="4608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7"/>
              <p:cNvSpPr txBox="1"/>
              <p:nvPr/>
            </p:nvSpPr>
            <p:spPr>
              <a:xfrm>
                <a:off x="5580000" y="2637000"/>
                <a:ext cx="3024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8"/>
              <p:cNvSpPr txBox="1"/>
              <p:nvPr/>
            </p:nvSpPr>
            <p:spPr>
              <a:xfrm>
                <a:off x="900000" y="3716280"/>
                <a:ext cx="49672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Rectangle 2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0"/>
              <p:cNvSpPr txBox="1"/>
              <p:nvPr/>
            </p:nvSpPr>
            <p:spPr>
              <a:xfrm>
                <a:off x="900000" y="4797360"/>
                <a:ext cx="45356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oal Latihan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entukan solusi masalah nilai awal berikut 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”+ 2 y ’- 8y = 0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0, y ‘(0) = 6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+ 4y = 1 – 2 t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y ‘(0) = 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– 2 y ‘ – 3y = 1,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1 , y ‘(0) = 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+ 4y = 0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-1 , y ‘(0) = 0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 - 4y =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Unicode MS"/>
              </a:rPr>
              <a:t>2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= 0, y ‘(0) =1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 “ – 4 y ‘ = sin t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(0) = y ‘ (0) = 0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245280"/>
            <a:ext cx="2530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985C-1C4E-4DDD-A86F-E227F47FA560}" type="datetime2">
              <a:rPr b="0" lang="id-ID" sz="14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 Unicode MS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II / </a:t>
            </a:r>
            <a:fld id="{E7189DFC-A2E7-4A9B-8776-B629035C1C2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0" name="Picture 4" descr="logosttt"/>
          <p:cNvPicPr/>
          <p:nvPr/>
        </p:nvPicPr>
        <p:blipFill>
          <a:blip r:embed="rId1"/>
          <a:stretch/>
        </p:blipFill>
        <p:spPr>
          <a:xfrm>
            <a:off x="395280" y="33336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6:23:08Z</dcterms:created>
  <dc:creator>Danang</dc:creator>
  <dc:description/>
  <dc:language>en-US</dc:language>
  <cp:lastModifiedBy>Toshiba</cp:lastModifiedBy>
  <dcterms:modified xsi:type="dcterms:W3CDTF">2012-01-30T09:03:01Z</dcterms:modified>
  <cp:revision>82</cp:revision>
  <dc:subject/>
  <dc:title>Slide 1</dc:title>
</cp:coreProperties>
</file>