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5.wav" ContentType="audio/x-wav"/>
  <Override PartName="/ppt/media/image9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3E1-7B4D-47C6-BBC2-65AB00F4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C97-E30A-4CDD-B491-B7474085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616-2D68-4B9B-A761-9077D2DF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8C1-EC5F-49EC-AB2A-8EB872CC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DBB-A9CC-4330-86D9-A1C09BDF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C25-945D-4754-958C-AAB44DE3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E8B-503D-418E-B4B6-6F0D5914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4C5-4914-4181-B689-6F14DB9E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C69-FE0E-4FEE-8855-88B59FAD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C49-5143-4587-A8DE-EAE233E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CD1-F11D-472E-BAB6-C1626235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97B-0249-434D-984F-9D6CAA90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D6DD-BB48-4F0A-BD8B-461566870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5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egar CEL2"/>
          <p:cNvPicPr/>
          <p:nvPr/>
        </p:nvPicPr>
        <p:blipFill>
          <a:blip r:embed="rId1"/>
          <a:stretch/>
        </p:blipFill>
        <p:spPr>
          <a:xfrm>
            <a:off x="-118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4427640" y="981000"/>
            <a:ext cx="435924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کیک خداوند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554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3635280" y="1688040"/>
            <a:ext cx="521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بعضی وقت ها از خودم می پرسم :" مگه من چه گناهی کردم که خداوند چنین مشکلی سر راه من قرار داد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ahoma"/>
                <a:cs typeface="Tahoma"/>
              </a:rPr>
              <a:t>برای جواب این سوال یک مثال جالب می زنم</a:t>
            </a:r>
            <a:r>
              <a:rPr b="0" lang="fa-IR" sz="20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PENCIL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9889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یک روز دختری که از درس جبر نمره نیاورده بود،قلبش شکسته بود و بهترین دوستش هم او را ترک کرده بود به مادرش گفت:" همش اتفاق های بد می افته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!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مادر که در حال کیک پختن بود از او پرسید که آیا کیک دوست دارد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ahoma"/>
                <a:cs typeface="Tahoma"/>
              </a:rPr>
              <a:t>و دخترک جواب داد:" البته، من عاشق دستپخت شما هستم</a:t>
            </a:r>
            <a:r>
              <a:rPr b="0" lang="fa-IR" sz="1800" spc="-1" strike="noStrike">
                <a:solidFill>
                  <a:srgbClr val="000000"/>
                </a:solidFill>
                <a:latin typeface="Tahoma"/>
                <a:ea typeface="Tahoma"/>
              </a:rPr>
              <a:t>!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4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564000" y="1127880"/>
            <a:ext cx="521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Tahoma"/>
                <a:cs typeface="Tahoma"/>
              </a:rPr>
              <a:t>مادر مقداری روغن مخصوص شیرینی پزی ب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Tahoma"/>
                <a:cs typeface="Tahoma"/>
              </a:rPr>
              <a:t>او داد</a:t>
            </a:r>
            <a:r>
              <a:rPr b="0" lang="fa-IR" sz="2200" spc="-1" strike="noStrike">
                <a:solidFill>
                  <a:srgbClr val="000000"/>
                </a:solidFill>
                <a:latin typeface="Tahoma"/>
                <a:cs typeface="Tahoma"/>
              </a:rPr>
              <a:t>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Tahoma"/>
                <a:cs typeface="Tahoma"/>
              </a:rPr>
              <a:t>دخترک گفت:" اه ... ! حالم را به ه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fa-IR" sz="2200" spc="-1" strike="noStrike">
                <a:solidFill>
                  <a:srgbClr val="000000"/>
                </a:solidFill>
                <a:latin typeface="Tahoma"/>
                <a:cs typeface="Tahoma"/>
              </a:rPr>
              <a:t>می زنه</a:t>
            </a:r>
            <a:r>
              <a:rPr b="0" lang="fa-IR" sz="2200" spc="-1" strike="noStrike">
                <a:solidFill>
                  <a:srgbClr val="000000"/>
                </a:solidFill>
                <a:latin typeface="Tahoma"/>
                <a:ea typeface="Tahoma"/>
              </a:rPr>
              <a:t>!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olive-oil"/>
          <p:cNvPicPr/>
          <p:nvPr/>
        </p:nvPicPr>
        <p:blipFill>
          <a:blip r:embed="rId1"/>
          <a:stretch/>
        </p:blipFill>
        <p:spPr>
          <a:xfrm>
            <a:off x="179280" y="189000"/>
            <a:ext cx="3067200" cy="4762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slow" advTm="5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cf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50920" y="1043280"/>
            <a:ext cx="43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ahoma"/>
                <a:cs typeface="B Koodak"/>
              </a:rPr>
              <a:t>مادر تخم مرغ خام به او پیشنه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ahoma"/>
                <a:ea typeface="B Kooda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Tahoma"/>
                <a:cs typeface="B Koodak"/>
              </a:rPr>
              <a:t>کرد، دختر گفت:" از بوش متنفرم</a:t>
            </a:r>
            <a:r>
              <a:rPr b="0" lang="fa-IR" sz="2800" spc="-1" strike="noStrike">
                <a:solidFill>
                  <a:srgbClr val="000000"/>
                </a:solidFill>
                <a:latin typeface="Tahoma"/>
                <a:ea typeface="B Koodak"/>
              </a:rPr>
              <a:t>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mm"/>
          <p:cNvPicPr/>
          <p:nvPr/>
        </p:nvPicPr>
        <p:blipFill>
          <a:blip r:embed="rId1"/>
          <a:stretch/>
        </p:blipFill>
        <p:spPr>
          <a:xfrm>
            <a:off x="4788000" y="260280"/>
            <a:ext cx="4032000" cy="3917880"/>
          </a:xfrm>
          <a:prstGeom prst="rect">
            <a:avLst/>
          </a:prstGeom>
          <a:ln w="57240">
            <a:solidFill>
              <a:srgbClr val="774f27"/>
            </a:solidFill>
            <a:miter/>
          </a:ln>
        </p:spPr>
      </p:pic>
      <p:sp>
        <p:nvSpPr>
          <p:cNvPr id="51" name="Rectangle 5"/>
          <p:cNvSpPr/>
          <p:nvPr/>
        </p:nvSpPr>
        <p:spPr>
          <a:xfrm>
            <a:off x="684360" y="4226760"/>
            <a:ext cx="79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ahoma"/>
                <a:cs typeface="B Koodak"/>
              </a:rPr>
              <a:t>این بار مادر رو به او کرده پرسید:" با کمی آرد چطوری؟</a:t>
            </a:r>
            <a:r>
              <a:rPr b="0" lang="fa-IR" sz="2800" spc="-1" strike="noStrike">
                <a:solidFill>
                  <a:srgbClr val="000000"/>
                </a:solidFill>
                <a:latin typeface="Tahoma"/>
                <a:ea typeface="B Kooda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ahoma"/>
                <a:ea typeface="B Kooda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Tahoma"/>
                <a:cs typeface="B Koodak"/>
              </a:rPr>
              <a:t>و دختر پاسخ داد که از همه آن ها بدش می آد</a:t>
            </a:r>
            <a:r>
              <a:rPr b="0" lang="fa-IR" sz="2800" spc="-1" strike="noStrike">
                <a:solidFill>
                  <a:srgbClr val="000000"/>
                </a:solidFill>
                <a:latin typeface="Tahoma"/>
                <a:ea typeface="B Kooda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 rot="21003600">
            <a:off x="2557440" y="1866960"/>
            <a:ext cx="423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6600"/>
                </a:solidFill>
                <a:latin typeface="Tahoma"/>
                <a:cs typeface="Tahoma"/>
              </a:rPr>
              <a:t>مادر با چهره ای مهربان و متین رو به دخترش گفت:"بله، شاید همه این ها به تنهای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fa-IR" sz="2000" spc="-1" strike="noStrike">
                <a:solidFill>
                  <a:srgbClr val="006600"/>
                </a:solidFill>
                <a:latin typeface="Tahoma"/>
                <a:cs typeface="Tahoma"/>
              </a:rPr>
              <a:t>به نظرت بد بیایند ولی وقتی که آن ها را به اندازه و شیوه مناسب با هم مخلو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fa-IR" sz="2000" spc="-1" strike="noStrike">
                <a:solidFill>
                  <a:srgbClr val="006600"/>
                </a:solidFill>
                <a:latin typeface="Tahoma"/>
                <a:cs typeface="Tahoma"/>
              </a:rPr>
              <a:t>کنی،یک کیک خیلی خوشمزه خواهی داشت</a:t>
            </a:r>
            <a:r>
              <a:rPr b="0" lang="fa-IR" sz="2000" spc="-1" strike="noStrike">
                <a:solidFill>
                  <a:srgbClr val="006600"/>
                </a:solidFill>
                <a:latin typeface="Tahoma"/>
                <a:ea typeface="Tahoma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774f27"/>
                </a:solidFill>
                <a:latin typeface="Tahoma"/>
                <a:cs typeface="B Jadid"/>
              </a:rPr>
              <a:t>خداوند نیز این چنین عمل می کند</a:t>
            </a:r>
            <a:r>
              <a:rPr b="0" lang="fa-IR" sz="2000" spc="-1" strike="noStrike">
                <a:solidFill>
                  <a:srgbClr val="774f27"/>
                </a:solidFill>
                <a:latin typeface="Tahoma"/>
                <a:ea typeface="B Jadi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 rot="20974200">
            <a:off x="2555640" y="1987200"/>
            <a:ext cx="417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6600"/>
                </a:solidFill>
                <a:latin typeface="Tahoma"/>
                <a:cs typeface="Tahoma"/>
              </a:rPr>
              <a:t>ما خیلی وقت ها از پیشامدهای ناگوار به پروردگارمان شکایت می کنیم در حالی که فقط او می داند که این موقعیت هابرای آمادگی در مراحل بعدی زندگی لازم است و منتهی به خیر می شوند</a:t>
            </a:r>
            <a:r>
              <a:rPr b="0" lang="fa-IR" sz="2000" spc="-1" strike="noStrike">
                <a:solidFill>
                  <a:srgbClr val="0066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6600"/>
                </a:solidFill>
                <a:latin typeface="Tahoma"/>
                <a:cs typeface="Tahoma"/>
              </a:rPr>
              <a:t>باید به خداوند توکل کرد و اطمینان داشت که همه این موقعیت های به ظاهر ناخوشایند،معجزه می آفرینند</a:t>
            </a:r>
            <a:r>
              <a:rPr b="0" lang="fa-IR" sz="2000" spc="-1" strike="noStrike">
                <a:solidFill>
                  <a:srgbClr val="0066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3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2887560"/>
            <a:ext cx="5292720" cy="3970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m6"/>
          <p:cNvPicPr/>
          <p:nvPr/>
        </p:nvPicPr>
        <p:blipFill>
          <a:blip r:embed="rId2"/>
          <a:stretch/>
        </p:blipFill>
        <p:spPr>
          <a:xfrm>
            <a:off x="1835280" y="2349360"/>
            <a:ext cx="5111640" cy="383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Negar 03252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468360" y="191628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2"/>
          <p:cNvPicPr/>
          <p:nvPr/>
        </p:nvPicPr>
        <p:blipFill>
          <a:blip r:embed="rId4">
            <a:lum bright="28000"/>
          </a:blip>
          <a:stretch/>
        </p:blipFill>
        <p:spPr>
          <a:xfrm>
            <a:off x="4572000" y="3168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44280" y="110160"/>
            <a:ext cx="9099720" cy="19227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B Koodak"/>
              </a:rPr>
              <a:t>مطمئن باش که خداوند تو را عاشقانه دوست دارد چون در هر بهار برایت گل می فرستد و هر روز صبح آفتاب را به تو هدیه می کند</a:t>
            </a:r>
            <a:r>
              <a:rPr b="0" lang="fa-IR" sz="2400" spc="-1" strike="noStrike">
                <a:solidFill>
                  <a:srgbClr val="000000"/>
                </a:solidFill>
                <a:latin typeface="Tahoma"/>
                <a:ea typeface="B Kooda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ahoma"/>
                <a:cs typeface="B Koodak"/>
              </a:rPr>
              <a:t>پروردگار هستی با اینکه می تواند در هر جایی از دنیا باشد قلب تو را انتخاب کرده و تنها اوست که هر وقت بخواهی چیزی بگویی گوش می کند</a:t>
            </a:r>
            <a:r>
              <a:rPr b="0" lang="fa-IR" sz="2400" spc="-1" strike="noStrike">
                <a:solidFill>
                  <a:srgbClr val="000000"/>
                </a:solidFill>
                <a:latin typeface="Tahoma"/>
                <a:ea typeface="B Kooda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 rot="21323400">
            <a:off x="1186920" y="1323720"/>
            <a:ext cx="73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Tahoma"/>
              </a:rPr>
              <a:t>و تو فقط باید صبور باشی و این مراحل را به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Tahoma"/>
              </a:rPr>
              <a:t>خوبی طی کن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ww.Faclip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6461280"/>
            <a:ext cx="406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randomBa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34">
                                  <p:stCondLst>
                                    <p:cond delay="6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1:01:26Z</dcterms:created>
  <dc:creator>http://sharifchemistry.blogfa.com/</dc:creator>
  <dc:description/>
  <dc:language>en-US</dc:language>
  <cp:lastModifiedBy>sourena</cp:lastModifiedBy>
  <dcterms:modified xsi:type="dcterms:W3CDTF">2009-02-04T11:26:49Z</dcterms:modified>
  <cp:revision>59</cp:revision>
  <dc:subject/>
  <dc:title>Slide 1</dc:title>
</cp:coreProperties>
</file>