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0.xml.rels" ContentType="application/vnd.openxmlformats-package.relationships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7102475" cy="9047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102800" cy="90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4022280" y="-360"/>
            <a:ext cx="30783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288800" y="677880"/>
            <a:ext cx="4524120" cy="339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9200" y="4296960"/>
            <a:ext cx="56833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591040"/>
            <a:ext cx="30780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4022280" y="8591040"/>
            <a:ext cx="30783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9476-9F4A-42D1-8ED0-420104AE05A1}" type="slidenum">
              <a:rPr b="0" lang="id-ID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89160" y="677880"/>
            <a:ext cx="4524120" cy="3392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200" y="4296960"/>
            <a:ext cx="56833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 target lisis →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4022640" y="8591400"/>
            <a:ext cx="3078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42D9-D0C6-498B-8CEA-8A6CD043DD9F}" type="slidenum">
              <a:rPr b="0" lang="id-ID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76EB8-37C8-40DE-934F-D70BCCD2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77C4C-686E-4C5E-A5B8-9ADA63AA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01DCA-A880-4F23-AACF-9FDB7E4C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770FC-9240-4751-B861-20D1F6E4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CA03-4FD3-47F5-9C56-A79FC26A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E3E8-6B4F-4C62-81CA-02C86B9A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7659-9CF0-4579-B51F-A3FBD0E6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C1A6-2FA2-4792-8641-C2D5C18F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EC50-9901-48B4-AB48-B6D863E7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DCCB-4C34-483D-BF72-3655EB96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B890-092E-4900-89E9-C8C8C09E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46222-715B-4573-9E09-CBD2EFAC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AFDA-29CF-4E20-ABBD-C201252D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46F7-620B-4606-98C4-69617111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B58B-0963-4F1B-8E70-95742872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CABC-F770-4FFF-93FD-C39855B2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7E8B-F144-4794-AD75-66FA245F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3D5D8-016A-4998-8D21-B402BA8B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16727-460A-4BE5-9184-064DD625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87735-696A-49ED-9C2F-B108295F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A484C-B2FD-4176-80FC-80E19600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146F-E22C-4C5D-9D0D-71B03377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6EE47-6F11-4A63-ABF5-551DBCBC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111FB-4DC9-46C5-839B-8FF2F7D0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A3C7-2C60-47D5-99A2-DC7707A13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093B-411B-403F-BDDE-527BB2FD34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Calibri"/>
              </a:rPr>
              <a:t>Infeksi Parasit pada sistem 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Calibri"/>
              </a:rPr>
              <a:t>Reproduksi dan Genitalia</a:t>
            </a:r>
            <a:r>
              <a:rPr b="0" i="1" lang="en-US" sz="4400" spc="-1" strike="noStrike">
                <a:solidFill>
                  <a:srgbClr val="ffff00"/>
                </a:solidFill>
                <a:latin typeface="Calibri"/>
              </a:rPr>
              <a:t>.</a:t>
            </a:r>
            <a:br>
              <a:rPr sz="4400"/>
            </a:br>
            <a:r>
              <a:rPr b="0" i="1" lang="en-US" sz="2000" spc="-1" strike="noStrike">
                <a:solidFill>
                  <a:srgbClr val="ffff00"/>
                </a:solidFill>
                <a:latin typeface="Calibri"/>
              </a:rPr>
              <a:t>Dr. Ati Rachmiawati, MS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id-ID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Garamond"/>
              </a:rPr>
              <a:t>Diagnosis </a:t>
            </a: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: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rologi → IFA, ELISA, IH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. Zat anti IgM (+) neonatus → infeksi (+) toksoplasmosis Kongenit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. Toksopl. Akuisita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: Ig G me ↑ ↑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pada pemeriksaan ke 2 ( jangka waktu ≥ 3 mgg 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konversi ( - ) → ( + 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ersangka ( bayi )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oksoplasmosis kongenit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Zat anti IgM → bisa ( - 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follow u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Zat anti IgG ( + ) dari ibu → ( - 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ila dalam 2-3 bulan tetap (+ ) atau titer me ↑ →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terinfeks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. PCR → deteksi DNA parasi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                      </a:t>
            </a: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Garamond"/>
              </a:rPr>
              <a:t>Pengobatan :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-  Obat hanya membunuh bentuk takizoit, tidak membasmi bentuk kist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-  Obat hanya memberantas infeksi akut, tidak menghilangkan infeksi menahu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                      </a:t>
            </a: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engobat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cam – macam obat yang ada saat ini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irimetam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a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ulfonamid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 sinergistik ), pirimetamin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ratogeni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fek samping : trombositopenia dan lekopenia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piramis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acrolid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, tidak dapat menembus plasenta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tapi ditemukan dg konsentrasi tinggi di plasent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leh diberikan pada wanita hamil dg infeksi pri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sis 100 mg / kg bb selama 30 – 45 h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filaktik untuk mencegah transmisi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. gondi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ke jan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lam kandungan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</a:t>
            </a: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engobat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lindamis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efektif untuk toksoplasm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Efek samping kolitis pseudomembranosa atau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olitis  ulserativ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Tidak dianjurkan untuk bayi dan wanita hami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ortikosteroi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digunakan untuk peradang pada mata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pi tdk diberikan sebagai obat tungg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laritromisin dan azitromis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                             </a:t>
            </a: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engobat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idroksinafkuin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 atoaguone 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kombinasi dengan sulfadiazi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at baru, dapat membunuh kista jaringan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da mencit, pada  manusia masih dala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nelitia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        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        </a:t>
            </a:r>
            <a:r>
              <a:rPr b="0" i="1" lang="en-US" sz="24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pidemiologi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skimo &amp; E1 Salvador prevalensi 1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merika tengah 90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donesia pada bintang        :kucing 35-73% ,     babi 11-36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ambing 11-61 %,  anjing 75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da manusia : 2 % &amp; 63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Transmisi penting makan daging kurang mata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Transmisi melalui ookista ( kucing mengeluarkan 10 ju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okista sehari selama 2 minggu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        </a:t>
            </a:r>
            <a:r>
              <a:rPr b="0" i="1" lang="en-US" sz="24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encegahan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Hindari makan daging kurang matang ( wanit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mil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Cuci tangan setelah pegang daging menta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Tutup makanan hindari dari lalat, lip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yur – mayur cuci bersi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Hindari kucing peliharaan dari tikus dan buru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rogn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ksoplasmosis akuisita biasanya tidak fa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Bentuk kista tidak dapat dibasmi, bila kekebalan me ↓ dapat eksaserbasi aku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Toksoplasmosis kongenital berat → Fatal (meningg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Toksoplasmosis kongenital yang hidup → infeksi menahun &amp;  gejala sisa / eksaserbasi aku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Pengobatan spesifik tak dapat menghilangkan gejala sisa hanya mencegah kerusakan lebih lanju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3" name="Picture 4" descr="Toxoplasma gondii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5" name="Picture 4" descr="T-gondii-brain"/>
          <p:cNvPicPr/>
          <p:nvPr/>
        </p:nvPicPr>
        <p:blipFill>
          <a:blip r:embed="rId1"/>
          <a:stretch/>
        </p:blipFill>
        <p:spPr>
          <a:xfrm>
            <a:off x="1295280" y="457200"/>
            <a:ext cx="6292800" cy="56689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3048120" y="63244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Toxoplasma  gondi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Garamond"/>
              </a:rPr>
              <a:t>Toxoplasma gond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08 : Pertama kali ditemukan pada binatang  manger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→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tenodactyius  gundi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i tunis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37 : Pada neonatus dg ensefalit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48 : Tes serologi ole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abin &amp; Felman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→ zat anti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ond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70 : Diketahui Daur hidup jelas → daur seksual pada kuc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Hospes definitif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: kucing, binatang sejenis (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elidae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Hospes perantar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: manusia, mamalia lain dan buru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Penyakit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toxoplasmosis kongenital dan toksoplasmosis akuisi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Geografi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: kosmopolit pada manusia, binata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8" name="Picture 4" descr="T-gondii-trofozoit2"/>
          <p:cNvPicPr/>
          <p:nvPr/>
        </p:nvPicPr>
        <p:blipFill>
          <a:blip r:embed="rId1"/>
          <a:stretch/>
        </p:blipFill>
        <p:spPr>
          <a:xfrm>
            <a:off x="1295280" y="603360"/>
            <a:ext cx="6553440" cy="48830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8"/>
          <p:cNvSpPr/>
          <p:nvPr/>
        </p:nvSpPr>
        <p:spPr>
          <a:xfrm>
            <a:off x="3537000" y="601992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ffffff"/>
                </a:solidFill>
                <a:latin typeface="Garamond"/>
              </a:rPr>
              <a:t>Toxoplasma gondi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66"/>
                </a:solidFill>
                <a:latin typeface="Calibri"/>
              </a:rPr>
              <a:t>Wuchereria bancroft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spes : manu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ma penyakit :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filariasis bankrof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wukereriasis bankrof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ida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erdapat secara alamiah pada hewa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tribusi geografik : daerah tropis termasuk Indone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jalanan penyakit : - std. mikrofila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std. aku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std. menahu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ktor   perkotaa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ulex quinquefasciat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id-ID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desaan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nophel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a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ed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F6FE-D686-401E-8BC3-968D5A90F2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4000" spc="-1" strike="noStrike">
                <a:solidFill>
                  <a:srgbClr val="e5e5ff"/>
                </a:solidFill>
                <a:latin typeface="바탕"/>
              </a:rPr>
              <a:t>                             </a:t>
            </a:r>
            <a:br>
              <a:rPr sz="4000"/>
            </a:b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W</a:t>
            </a:r>
            <a:r>
              <a:rPr b="1" i="1" lang="id-ID" sz="2000" spc="-1" strike="noStrike">
                <a:solidFill>
                  <a:srgbClr val="ff0000"/>
                </a:solidFill>
                <a:latin typeface="바탕"/>
              </a:rPr>
              <a:t>uchereria b</a:t>
            </a: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ancroft</a:t>
            </a:r>
            <a:r>
              <a:rPr b="1" i="1" lang="id-ID" sz="2000" spc="-1" strike="noStrike">
                <a:solidFill>
                  <a:srgbClr val="ff0000"/>
                </a:solidFill>
                <a:latin typeface="바탕"/>
              </a:rPr>
              <a:t>i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Patklin : gejala </a:t>
            </a: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klinis</a:t>
            </a: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 filariasis limfat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Cacing dewasa             Mikrofila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바탕"/>
              </a:rPr>
              <a:t>Limfadenitis                         </a:t>
            </a:r>
            <a:r>
              <a:rPr b="1" lang="en-US" sz="2400" spc="-1" strike="noStrike">
                <a:solidFill>
                  <a:srgbClr val="ffc000"/>
                </a:solidFill>
                <a:latin typeface="바탕"/>
              </a:rPr>
              <a:t>#</a:t>
            </a:r>
            <a:r>
              <a:rPr b="1" lang="en-US" sz="2400" spc="-1" strike="noStrike">
                <a:solidFill>
                  <a:srgbClr val="ffffff"/>
                </a:solidFill>
                <a:latin typeface="바탕"/>
              </a:rPr>
              <a:t> Tanpa gejal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바탕"/>
              </a:rPr>
              <a:t>Limfangitis retrograd            </a:t>
            </a:r>
            <a:r>
              <a:rPr b="1" lang="en-US" sz="2400" spc="-1" strike="noStrike">
                <a:solidFill>
                  <a:srgbClr val="ffc000"/>
                </a:solidFill>
                <a:latin typeface="바탕"/>
              </a:rPr>
              <a:t>#</a:t>
            </a:r>
            <a:r>
              <a:rPr b="1" lang="en-US" sz="2400" spc="-1" strike="noStrike">
                <a:solidFill>
                  <a:srgbClr val="ffffff"/>
                </a:solidFill>
                <a:latin typeface="바탕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바탕"/>
              </a:rPr>
              <a:t>Occult filarias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바탕"/>
              </a:rPr>
              <a:t>Limfedem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바탕"/>
              </a:rPr>
              <a:t>Elefantias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바탕"/>
                <a:ea typeface="바탕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바탕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W</a:t>
            </a:r>
            <a:r>
              <a:rPr b="1" i="1" lang="id-ID" sz="2000" spc="-1" strike="noStrike">
                <a:solidFill>
                  <a:srgbClr val="ff0000"/>
                </a:solidFill>
                <a:latin typeface="바탕"/>
              </a:rPr>
              <a:t>uchereria b</a:t>
            </a: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ancroft</a:t>
            </a:r>
            <a:r>
              <a:rPr b="1" i="1" lang="id-ID" sz="2000" spc="-1" strike="noStrike">
                <a:solidFill>
                  <a:srgbClr val="ff0000"/>
                </a:solidFill>
                <a:latin typeface="바탕"/>
              </a:rPr>
              <a:t>i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Gejala klin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d akut:   - Limfadenit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Limfangitis retrogr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Peradangan sistem limfatik genitalia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♂ :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funikulitis, epididimitis, orkit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Std menahun: - Hidrok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- Limfede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- Elefantiasis : seluruh tungkai/lengan,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buah zakar, payudara, vulv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- Kilu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biasanya mikrofilaremia negati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Wuchereria </a:t>
            </a:r>
            <a:r>
              <a:rPr b="1" i="1" lang="id-ID" sz="2000" spc="-1" strike="noStrike">
                <a:solidFill>
                  <a:srgbClr val="ff0000"/>
                </a:solidFill>
                <a:latin typeface="바탕"/>
              </a:rPr>
              <a:t>b</a:t>
            </a: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ancrofti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바탕"/>
              </a:rPr>
              <a:t>Daur hidup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cing dewasa : hidup di sal./kel. Limf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krofilaria : hidup di dalam darah; memiliki peridiositas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onesia : periodik  noktur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aerah Pasifik : subperiodik diur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uangthai : subperiodik noktur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ridiositas dipengaruhi oleh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adar O2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바탕"/>
              </a:rPr>
              <a:t>&amp; CO2 dalam dara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바탕"/>
              </a:rPr>
              <a:t>Aktivitas hospes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바탕"/>
              </a:rPr>
              <a:t>mekanisme pasti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  <a:ea typeface="바탕"/>
              </a:rPr>
              <a:t>bel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바탕"/>
              </a:rPr>
              <a:t>Irama sirkardian ( bioritme )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바탕"/>
              </a:rPr>
              <a:t> diketahu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바탕"/>
              </a:rPr>
              <a:t>Jenis hosp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바탕"/>
              </a:rPr>
              <a:t>Jenis parasit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4419720" y="42670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4419720" y="5638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4952880" y="42670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4952880" y="48769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5345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Wuchereria Bancroft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Diagnosi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ejala klini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ara Parasitologi : mikrofilaria dalam darah, cairan hidrokel/kilu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ara histopatologis : potongan cacing dewasa dalam jaringan hospes (biops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G skrotum dan kel. Inguinal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filarial dance sig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munologi : deteksi antigen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W. bancrofti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engan teknik ELISA  (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Enzyme Linked Immuno Sorben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say ) dan ICT (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Immuno Chromatographic Tes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579600"/>
            <a:ext cx="8458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Wuchereria </a:t>
            </a:r>
            <a:r>
              <a:rPr b="1" i="1" lang="id-ID" sz="2000" spc="-1" strike="noStrike">
                <a:solidFill>
                  <a:srgbClr val="ff0000"/>
                </a:solidFill>
                <a:latin typeface="바탕"/>
              </a:rPr>
              <a:t>b</a:t>
            </a: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ancroft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Pengobatan dan prognosi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bat piliha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: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C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ietilkarbamasin sitra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hasiat : mikrofilarisidal dan makrofilarisid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sis perorangan : 6 mg / Kg bb/ hari selama 12 hr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sis harian : 3 X pemberian per har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ngobatan perlu diulang 2 – 3 kal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Wuchereria </a:t>
            </a:r>
            <a:r>
              <a:rPr b="1" i="1" lang="id-ID" sz="2000" spc="-1" strike="noStrike">
                <a:solidFill>
                  <a:srgbClr val="ff0000"/>
                </a:solidFill>
                <a:latin typeface="바탕"/>
              </a:rPr>
              <a:t>b</a:t>
            </a: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ancroft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Pengobatan dan prognosi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fek samping secara umum, ada 2 jenis reaksi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ksi sistemik : demam, sefalgia, artralgia, pusing,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mesis, serangan asma, anoreksia, reaksi alergi,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maturia transi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ksi lokal: limfadenitis, abses, ulserasi, transien limfedema, hidrokel, funikulitis, epididmit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bat alternatif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vermektin, albendaz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Wuchereria </a:t>
            </a:r>
            <a:r>
              <a:rPr b="1" i="1" lang="id-ID" sz="2000" spc="-1" strike="noStrike">
                <a:solidFill>
                  <a:srgbClr val="ff0000"/>
                </a:solidFill>
                <a:latin typeface="바탕"/>
              </a:rPr>
              <a:t>b</a:t>
            </a: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ancroft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erapi massal di Indonesi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C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sis rendah jangka panja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&lt; 10 tahun : 50 mg/mggu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40 mgg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&gt; 10 tahun : 100 mg/mggu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40 mgg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insip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murah, mudah aman dan  efekti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바탕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</a:rPr>
              <a:t>    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1224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Wuchereria </a:t>
            </a:r>
            <a:r>
              <a:rPr b="1" i="1" lang="id-ID" sz="2000" spc="-1" strike="noStrike">
                <a:solidFill>
                  <a:srgbClr val="ff0000"/>
                </a:solidFill>
                <a:latin typeface="바탕"/>
              </a:rPr>
              <a:t>b</a:t>
            </a: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ancroft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erapi massal DEPKES RI 2000: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. Dosis WHO (2000) kombinasi 2 jenis obat tunggal 1 x / tahu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4 – 6 tahun :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C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&amp;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lbendazol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tau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Ivermektin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&amp;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lbendaz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. Garam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C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1 tahu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. Kombinasi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C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&amp;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lbendazol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sis tunggal +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ram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C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1 tahu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 Indonesia sampai sekarang :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C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osis rendah 1 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rminggu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40 mingg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바탕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</a:rPr>
              <a:t>    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Daur hidup </a:t>
            </a:r>
            <a:r>
              <a:rPr b="0" i="1" lang="en-US" sz="3600" spc="-1" strike="noStrike">
                <a:solidFill>
                  <a:srgbClr val="ffff00"/>
                </a:solidFill>
                <a:latin typeface="Garamond"/>
              </a:rPr>
              <a:t>Toxoplasm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UCING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skizogon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.d           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gametogon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ista jaringa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NJA KUC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porogon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okist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KU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NUSIA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trofozoi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.P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H.p                                kista jaringa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kut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rofozoi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arnivorism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KU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MALIA LAI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URU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.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enahu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ista jaringa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Line 6"/>
          <p:cNvSpPr/>
          <p:nvPr/>
        </p:nvSpPr>
        <p:spPr>
          <a:xfrm flipH="1">
            <a:off x="609480" y="5410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609480" y="1066320"/>
            <a:ext cx="0" cy="4343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609480" y="1066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1371600" y="1066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1371600" y="1600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1447920" y="10666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1371600" y="10666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2666880" y="1066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1219320" y="48006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6"/>
          <p:cNvSpPr/>
          <p:nvPr/>
        </p:nvSpPr>
        <p:spPr>
          <a:xfrm flipV="1">
            <a:off x="3657600" y="48006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1143000" y="48769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1143000" y="29718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1143000" y="41911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Line 20"/>
          <p:cNvSpPr/>
          <p:nvPr/>
        </p:nvSpPr>
        <p:spPr>
          <a:xfrm flipV="1">
            <a:off x="2819520" y="304776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1143000" y="29718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1219320" y="1905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1143000" y="27432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Line 24"/>
          <p:cNvSpPr/>
          <p:nvPr/>
        </p:nvSpPr>
        <p:spPr>
          <a:xfrm flipV="1">
            <a:off x="3276720" y="18288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25"/>
          <p:cNvSpPr/>
          <p:nvPr/>
        </p:nvSpPr>
        <p:spPr>
          <a:xfrm>
            <a:off x="1219320" y="182880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26"/>
          <p:cNvSpPr/>
          <p:nvPr/>
        </p:nvSpPr>
        <p:spPr>
          <a:xfrm>
            <a:off x="3809880" y="11430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3886200" y="28195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3962520" y="3809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3886200" y="28195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5486400" y="28195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AutoShape 31"/>
          <p:cNvSpPr/>
          <p:nvPr/>
        </p:nvSpPr>
        <p:spPr>
          <a:xfrm>
            <a:off x="6095880" y="3048120"/>
            <a:ext cx="152640" cy="533160"/>
          </a:xfrm>
          <a:custGeom>
            <a:avLst/>
            <a:gdLst>
              <a:gd name="textAreaLeft" fmla="*/ 97560 w 152640"/>
              <a:gd name="textAreaRight" fmla="*/ 153000 w 15264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Line 32"/>
          <p:cNvSpPr/>
          <p:nvPr/>
        </p:nvSpPr>
        <p:spPr>
          <a:xfrm>
            <a:off x="3657600" y="58672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Line 33"/>
          <p:cNvSpPr/>
          <p:nvPr/>
        </p:nvSpPr>
        <p:spPr>
          <a:xfrm flipV="1">
            <a:off x="4876920" y="40384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34"/>
          <p:cNvSpPr/>
          <p:nvPr/>
        </p:nvSpPr>
        <p:spPr>
          <a:xfrm>
            <a:off x="3429000" y="22096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35"/>
          <p:cNvSpPr/>
          <p:nvPr/>
        </p:nvSpPr>
        <p:spPr>
          <a:xfrm>
            <a:off x="4724280" y="2209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36"/>
          <p:cNvSpPr/>
          <p:nvPr/>
        </p:nvSpPr>
        <p:spPr>
          <a:xfrm flipH="1">
            <a:off x="761760" y="34290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37"/>
          <p:cNvSpPr/>
          <p:nvPr/>
        </p:nvSpPr>
        <p:spPr>
          <a:xfrm flipV="1">
            <a:off x="838080" y="1294920"/>
            <a:ext cx="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39"/>
          <p:cNvSpPr/>
          <p:nvPr/>
        </p:nvSpPr>
        <p:spPr>
          <a:xfrm flipV="1">
            <a:off x="2209680" y="41907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40"/>
          <p:cNvSpPr/>
          <p:nvPr/>
        </p:nvSpPr>
        <p:spPr>
          <a:xfrm>
            <a:off x="2514600" y="4267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Line 41"/>
          <p:cNvSpPr/>
          <p:nvPr/>
        </p:nvSpPr>
        <p:spPr>
          <a:xfrm>
            <a:off x="1981080" y="2819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Line 42"/>
          <p:cNvSpPr/>
          <p:nvPr/>
        </p:nvSpPr>
        <p:spPr>
          <a:xfrm>
            <a:off x="2057400" y="16002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Line 43"/>
          <p:cNvSpPr/>
          <p:nvPr/>
        </p:nvSpPr>
        <p:spPr>
          <a:xfrm flipH="1">
            <a:off x="990360" y="2438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44"/>
          <p:cNvSpPr/>
          <p:nvPr/>
        </p:nvSpPr>
        <p:spPr>
          <a:xfrm flipV="1">
            <a:off x="990720" y="152352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Line 45"/>
          <p:cNvSpPr/>
          <p:nvPr/>
        </p:nvSpPr>
        <p:spPr>
          <a:xfrm>
            <a:off x="838080" y="1295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46"/>
          <p:cNvSpPr/>
          <p:nvPr/>
        </p:nvSpPr>
        <p:spPr>
          <a:xfrm>
            <a:off x="990720" y="1523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47"/>
          <p:cNvSpPr/>
          <p:nvPr/>
        </p:nvSpPr>
        <p:spPr>
          <a:xfrm>
            <a:off x="1219320" y="65530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Kandido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Kandidosis / kandidiasis ialah 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enyakit jamur yang menyerang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kulit, kuku, selaput lendir dan alat dalam yang disebabkan oleh berbagai spesies </a:t>
            </a: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Candid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5e5ff"/>
                </a:solidFill>
                <a:uFillTx/>
                <a:latin typeface="Garamond"/>
              </a:rPr>
              <a:t>Penyebab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andida albican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andida tropicalis, Candida krusei, Candida parapsilo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nyebab terbanyak kandidosi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 C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ndida albican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→ spesies denga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patogenitas paling tingg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- C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ndid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→ diformik, membentuk sel ragi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dan  hifa sem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5e5ff"/>
                </a:solidFill>
                <a:uFillTx/>
                <a:latin typeface="Garamond"/>
              </a:rPr>
              <a:t>Gejala Klini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andid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idup saprofit / komensal di</a:t>
            </a:r>
            <a:r>
              <a:rPr b="0" lang="en-US" sz="2800" spc="-1" strike="noStrike">
                <a:solidFill>
                  <a:srgbClr val="a886e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ngga mulut , saluran cerna,saluran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fas, mukosa vagina ,dibawah kuku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la terjadi perubahan fisiologi / kekebalan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penyaki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  <a:ea typeface="Arial"/>
              </a:rPr>
              <a:t>Faktor resik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1. Fisiologi → kehamilan, usia, ha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2. Non fisiologi → trauma, maserasi / tukang cuci,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gigi palsu, o.s di ICU, antibiotik / corticosteroid /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sitostatik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erdasarkan lokalisasi kandidosis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i bagi 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.  Kandidosis superfisi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I. Kandidosis sistemik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07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I. Kandidosis superfisialis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Kandidosis kuli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 ditemukan terutama pada daerah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mbab dan hang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  turunnya imunitas lok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  sering terjadi disela jari kaki / tanga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guinal, perineum, bawah payu dara, ketia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  di sela jari / tangan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→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“penyakit kutu air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oleh karena pekerjaan kontak dengan ai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5e5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Pada bayi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80820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rjadi kandidosis inguinal, kandidosis perine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si kemerahan =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iaper ras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Pada dewa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Kandidiasis inguinal oleh karena kandidiasis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agi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infeksi terjadi akibat tercemar saat membersihkan daerah perianal setelah defekas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lesi vesikopustular, maserasi dan eritem dasar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ra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gejala  utama, rasa gatal &amp; rasa sakit bila terjadi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serasi ( infeksi sekunder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2. Kandidosis kuku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iasa pada dewas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erjadi par</a:t>
            </a:r>
            <a:r>
              <a:rPr b="0" lang="id-ID" sz="36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id-ID" sz="36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kia, kemerahan sekitar kuku &amp; bawah kuku, rasa nyer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Kuku </a:t>
            </a:r>
            <a:r>
              <a:rPr b="0" lang="id-ID" sz="3600" spc="-1" strike="noStrike">
                <a:solidFill>
                  <a:srgbClr val="ffffff"/>
                </a:solidFill>
                <a:latin typeface="Garamond"/>
              </a:rPr>
              <a:t>putih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pt susu, rapuh &amp; meneb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ermukaan kuku tidak rata, lepas, hila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ngenai satu, beberapa, seluruh kuku tangan &amp; kak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3</a:t>
            </a:r>
            <a:r>
              <a:rPr b="0" lang="en-US" sz="3600" spc="-1" strike="noStrike">
                <a:solidFill>
                  <a:srgbClr val="e5e5ff"/>
                </a:solidFill>
                <a:latin typeface="Calibri"/>
              </a:rPr>
              <a:t>. Kandidosis selaput lendir / mukos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genai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ukosa vagin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orofarings, esofagus, intesti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Kandidosis orof</a:t>
            </a:r>
            <a:r>
              <a:rPr b="0" lang="id-ID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ngs ( KOF )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→ pada bayi, orang tua, imunokompromis, DM, Ca, Steroid, antibiotik, lek</a:t>
            </a:r>
            <a:r>
              <a:rPr b="0" lang="id-ID" sz="3200" spc="-1" strike="noStrike">
                <a:solidFill>
                  <a:srgbClr val="ffffff"/>
                </a:solidFill>
                <a:latin typeface="Calibri"/>
                <a:ea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mia, radiasi, HIV / AID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ditemukan bercak putih, seperti sis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susu dibibir, lidah, mukosa mulu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Kandidosis selaput lendir /mukosa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pada ♀ → vaginit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gejala utama: fluor albus / keputihan (encer – kental) disertai gatal pada vulva, nyeri, disuria, tidak berbau/minim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Patofisiologi: perubahan lingkungan mikro dan imunitas lokal vagi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iagnosis Kandidosis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men jamur (+) /  isolasi jamur dari bahan klin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a 2 car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merikasaan langsu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→ garam faal / KOH 10 % (usap vagi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2. Media agar Saboroud dextros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3. Kandidosis sistemik pem.Histopatologi jaring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                                      </a:t>
            </a: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Daur Hidu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pitel usus kucing → skizogoni dan gametogoni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orogoni → ookista ( tinja ) t’telan hp peranta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→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r. Hospes dibtk kelompok trofozoit → takizo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→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dizoit → kista jaring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Ukuran kist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: - bbrp mikron – 200 mikr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mengandung sedikit parasit – 3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kista seumur hidup dlm jar. hosp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Candida s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34" name="Picture 4" descr="candida"/>
          <p:cNvPicPr/>
          <p:nvPr/>
        </p:nvPicPr>
        <p:blipFill>
          <a:blip r:embed="rId1"/>
          <a:stretch/>
        </p:blipFill>
        <p:spPr>
          <a:xfrm>
            <a:off x="1600200" y="1347840"/>
            <a:ext cx="57150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Garamond"/>
              </a:rPr>
              <a:t>Kandidosis inguinali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36" name="Picture 4" descr="Picture1"/>
          <p:cNvPicPr/>
          <p:nvPr/>
        </p:nvPicPr>
        <p:blipFill>
          <a:blip r:embed="rId1"/>
          <a:stretch/>
        </p:blipFill>
        <p:spPr>
          <a:xfrm>
            <a:off x="1752480" y="1600200"/>
            <a:ext cx="5639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http://smellyvaginaldischarge.net/wp-content/uploads/2012/04/Candidiasis-Vagina.jpg"/>
          <p:cNvPicPr/>
          <p:nvPr/>
        </p:nvPicPr>
        <p:blipFill>
          <a:blip r:embed="rId1"/>
          <a:stretch/>
        </p:blipFill>
        <p:spPr>
          <a:xfrm>
            <a:off x="149400" y="1447920"/>
            <a:ext cx="4194000" cy="3657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http://liafathir.files.wordpress.com/2012/04/vaginal-yeast-infection-and-candidiasis-treatment.jpg"/>
          <p:cNvPicPr/>
          <p:nvPr/>
        </p:nvPicPr>
        <p:blipFill>
          <a:blip r:embed="rId2"/>
          <a:stretch/>
        </p:blipFill>
        <p:spPr>
          <a:xfrm>
            <a:off x="5257800" y="1905120"/>
            <a:ext cx="3352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://smellyvaginaldischarge.net/wp-content/uploads/2012/04/Candidiasis-Penis.jpg"/>
          <p:cNvPicPr/>
          <p:nvPr/>
        </p:nvPicPr>
        <p:blipFill>
          <a:blip r:embed="rId1"/>
          <a:stretch/>
        </p:blipFill>
        <p:spPr>
          <a:xfrm>
            <a:off x="1838160" y="1066680"/>
            <a:ext cx="5248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Garamond"/>
              </a:rPr>
              <a:t>Ftiria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nyebab :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Pthirus pub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uma pada bagian rambut kemaluan, dapat juga pada rambut ketiak, jenggot, kumis, alis dan bulu m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nularan melalui kontak langsung, terutama pada waktu hubungan seksu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Garamond"/>
              </a:rPr>
              <a:t>Ftiria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tologi &amp; Gejala Klinik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sa gatal ; jika mengenai bulu mata  dap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gganggu penglihata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gnosis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emukan parasit dari rambut kemaluan ata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mbut lainny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Garamond"/>
              </a:rPr>
              <a:t>Ftiria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rapi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sektis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nzen heksa klor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cukur rambut yang sak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5312520" y="4876920"/>
            <a:ext cx="37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wasa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thirus pub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7" name="Picture 6" descr="foto27"/>
          <p:cNvPicPr/>
          <p:nvPr/>
        </p:nvPicPr>
        <p:blipFill>
          <a:blip r:embed="rId1"/>
          <a:stretch/>
        </p:blipFill>
        <p:spPr>
          <a:xfrm>
            <a:off x="685800" y="695160"/>
            <a:ext cx="3962520" cy="25815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1203480" y="351468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imfa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. pub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9" name="Picture 9" descr="1051023038"/>
          <p:cNvPicPr/>
          <p:nvPr/>
        </p:nvPicPr>
        <p:blipFill>
          <a:blip r:embed="rId2"/>
          <a:stretch/>
        </p:blipFill>
        <p:spPr>
          <a:xfrm>
            <a:off x="5562720" y="1362240"/>
            <a:ext cx="3200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Trikomonias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nyebab: </a:t>
            </a:r>
            <a:r>
              <a:rPr b="0" i="1" lang="en-US" sz="3200" spc="-1" strike="noStrike">
                <a:solidFill>
                  <a:srgbClr val="ffff00"/>
                </a:solidFill>
                <a:latin typeface="Calibri"/>
              </a:rPr>
              <a:t>Trichomonas vaginalis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(1836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nya bentuk vegetat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nita: vagina &amp; uret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ki-laki: uretra, vesika seminalis dan prost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dup pada mukosa vagina memakan bakter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an lekos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rkembang biak: belah pasang longitudi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Trikomonias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luar habitat bisa mati pada suhu 50°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da suhu 0°C dapat hidup 5 har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idak dapat Hidup pada sekret vagina asam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idak tahan desinfekstans, zat pulasan dan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tibioti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ara Infeksi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kontak langsung, tidak langsu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alat mandi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45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               </a:t>
            </a: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r>
              <a:rPr b="0" i="1" lang="en-US" sz="28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ara infeks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Toksoplasmosis kongenital → Plasenta , bil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bu mendapat infeksi primer waktu hami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Toksoplasmosis akuisita → tertelan ookista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an daging mengandung kista jaringa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Laboratorium → jarum suntik / alat lab ya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rkontaminasi, binatang percoba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Transplantasi org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Transfusi dara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Trikomonias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atofisiologi  trikomonia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ub seksual dg org yang mengandung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T.vaginali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→ trofozoit menempel pada sel epitel vagina → terjadi melalui ligand-karbohidrat, parasit menggunakan Mannose dan N-asetil glukosamin unt penempelan → sekresi hidrolase lisosomal (sitotoksik) → sel target lisis shg mengeluarkan isinya,  sel debris yang akan dimakan oleh parasit →  pindah ke sel target lain, d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Trikomonias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atofisiologi  trikomonia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ila pH dan fisiologi sesuai maka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T.vaginali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kan berkembang dengan cepat → degenerasi dan deskwamasi sel epitel vagina → serangan lekosit → sekret vagina ditemukan banyak lekosit, bercampur sel epitel → lekore (berbus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Trikomonias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ejala klin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luor albus/ keputih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uritus vulva vagi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pareu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u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ejala klinis bisa eksaserbasi pada saat hai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Gejala klinis pada laki-laki : tidak K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Trikomonias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ejala klin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 spekulo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lpitis macularis (strawberry cervix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ritema vulva vagi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nding vagina dan portio hiperemis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, petechia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kret putih kelabu berbu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Trikomonias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Komplikasi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neksi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iosalpingi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dometri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fertilit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da ibu hamil : KPD, bayi lahir prematur d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BL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Trichomonas vaginali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6" name="Picture 2" descr="http://instruct.uwo.ca/biology/332a/wk2trc.jpg"/>
          <p:cNvPicPr/>
          <p:nvPr/>
        </p:nvPicPr>
        <p:blipFill>
          <a:blip r:embed="rId1"/>
          <a:stretch/>
        </p:blipFill>
        <p:spPr>
          <a:xfrm>
            <a:off x="657360" y="1009800"/>
            <a:ext cx="78771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Sekret vagina pada trikomoniasi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kret tampak berbu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9" name="Picture 2" descr="http://www.medscape.com/content/1997/00/40/88/408848/art-w293.fig4a.jpg"/>
          <p:cNvPicPr/>
          <p:nvPr/>
        </p:nvPicPr>
        <p:blipFill>
          <a:blip r:embed="rId1"/>
          <a:stretch/>
        </p:blipFill>
        <p:spPr>
          <a:xfrm>
            <a:off x="762120" y="2790720"/>
            <a:ext cx="3429000" cy="2467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http://www.atsu.edu/faculty/chamberlain/Website/lectures/lecture/image/bacvag.jpg"/>
          <p:cNvPicPr/>
          <p:nvPr/>
        </p:nvPicPr>
        <p:blipFill>
          <a:blip r:embed="rId2"/>
          <a:stretch/>
        </p:blipFill>
        <p:spPr>
          <a:xfrm>
            <a:off x="4848120" y="2867040"/>
            <a:ext cx="32292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Garamond"/>
              </a:rPr>
              <a:t>Trikomoniasi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gnos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Keluhan/gejala klin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meriksaan fisik/vagina vulv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Diagnosis Pasti: Menemukan parasit pada: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meriksaan sekret vagina, sekret uretra, sekret prostat, uri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Garamond"/>
              </a:rPr>
              <a:t>Trikomoniasi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Pengobata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asar pengobatan adalah membersihkan   mukosa vagina dengan obat oral dan topik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ronidazole : 2 x 500 mg selama 5-7 har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ronidazole: 2 gram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single dos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mua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pikal : Metronidazole vaginal tab 500 mg/hari selama 5-7 har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gobati pasang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1" descr=""/>
          <p:cNvPicPr/>
          <p:nvPr/>
        </p:nvPicPr>
        <p:blipFill>
          <a:blip r:embed="rId1"/>
          <a:stretch/>
        </p:blipFill>
        <p:spPr>
          <a:xfrm>
            <a:off x="2193840" y="2766960"/>
            <a:ext cx="4743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                </a:t>
            </a: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atologi dan Gejala klin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kista tertelan → usus→ sebagian mati difagos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bagian  b’kembang biak dalam sel →takizo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 pecah → menyerang sel2 lain → limfos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n makrofag → hematogen dan limfogen →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uruh organ tubuh kecuali sel darah merah →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a sudah ada kekebalan → kista jaring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Gejala klin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rusakkan yang terjadi tergantung pada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mur penderi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irulensi strain Toxoplas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mlah paras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 yang disera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Gejala klini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oksoplasmosis aku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simptomatik ; limfadenopati, malaise, demam, sakit kepa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feksi primer pd ibu hamil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→ T. kongenital (retinokoroiditis, gejala timbul bila anak sdh mulai besar, remaj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Gejala klini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Toksoplasmosis Kongeni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ambaran bermacam-macam (eritroblastosis, hidrops fetalis dan triad klasik :  hidrosepalus, retinokoroiditis, kalsifikasi intrakranial, kelainan psikomot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Gejala susunan saraf pus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8:21:35Z</dcterms:created>
  <dc:creator>Parasitologi</dc:creator>
  <dc:description/>
  <dc:language>en-US</dc:language>
  <cp:lastModifiedBy>AVA</cp:lastModifiedBy>
  <dcterms:modified xsi:type="dcterms:W3CDTF">2004-12-31T18:28:26Z</dcterms:modified>
  <cp:revision>84</cp:revision>
  <dc:subject/>
  <dc:title>Slide 1</dc:title>
</cp:coreProperties>
</file>