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102475" cy="9047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102800" cy="90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88800" y="677880"/>
            <a:ext cx="452412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200" y="4296960"/>
            <a:ext cx="56833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591040"/>
            <a:ext cx="3078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022280" y="8591040"/>
            <a:ext cx="3078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2F6-82DF-49CA-9400-A049A26144CF}" type="slidenum">
              <a:rPr b="0" lang="id-ID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89160" y="677880"/>
            <a:ext cx="4524120" cy="3392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200" y="4296960"/>
            <a:ext cx="56833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 target lisis →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22640" y="8591400"/>
            <a:ext cx="307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795-3FD3-478C-8923-DD7FDC01D8B0}" type="slidenum">
              <a:rPr b="0" lang="id-ID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C96A-9580-4822-8631-92B83113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CC66-71BA-44CA-A5C5-8FBCD60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2154-4474-456C-B2BD-8609A637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60EA-8AFD-497B-A402-0D27C1E2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AFDF-08AF-4E6B-9F59-FDB3C9F1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5DD6-2C43-40CA-A865-C09C8FB9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D915-A2A6-4090-8DB0-552F5882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7789-BE24-407B-AAE4-5585E822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FD1A-BA22-4CE6-BBC9-174574A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326-2333-4FA4-AF27-9C824A3D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9F0D-3FFF-4B3A-AC52-A8257F2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171D-D91B-45AF-809A-D94C04D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B86C-826D-4E93-89DB-E5B9D71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CC0A-8344-47A5-8551-3114D4B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F3BD-30E1-43CE-848E-C2DE0A4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505C-3FB3-40A9-AEC9-8B4FA3DE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37EC-56CC-4D3D-8B55-65EE4F64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6BE7-EB2E-450E-8A52-1CB1DAA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B9E9-C308-4534-997E-A987DCD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A5C1-6E2B-485F-AA77-C6C5C38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C5CB-C27A-4A4B-A55A-E61950B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63FC-218A-4449-8833-F3F9E10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D0C5-1C22-4F68-969F-70A4E0E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C91E-3DBA-4756-B237-DAD0A55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38B-C16C-4F2E-9068-381753D4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931C-4D48-40DA-84CE-FC67029CC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Infeksi Parasit pada sistem 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Reproduksi dan Genitalia</a:t>
            </a:r>
            <a:r>
              <a:rPr b="0" i="1" lang="en-US" sz="44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Calibri"/>
              </a:rPr>
              <a:t>Dr. Ati Rachmiawati, MS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id-ID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Diagnosis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rologi → IFA, ELISA, I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Zat anti IgM (+) neonatus → infeksi (+) toksoplasmosis Kongenit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. Toksopl. Akuisit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: Ig G me ↑ 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pada pemeriksaan ke 2 ( jangka waktu ≥ 3 mgg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konversi ( - ) → ( +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ersangka ( bayi 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ksoplasmosis kongenit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Zat anti IgM → bisa ( -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follow 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Zat anti IgG ( + ) dari ibu → ( -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la dalam 2-3 bulan tetap (+ ) atau titer me ↑ →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terinfeks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PCR → deteksi DNA parasi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Pengobatan :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 Obat hanya membunuh bentuk takizoit, tidak membasmi bentuk kis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 Obat hanya memberantas infeksi akut, tidak menghilangkan infeksi menahu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cam – macam obat yang ada saat ini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irimeta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ulfonami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 sinergistik ), pirimetamin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atogeni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 samping : trombositopenia dan lekopenia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piramis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crolid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tidak dapat menembus plasent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tapi ditemukan dg konsentrasi tinggi di plasen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eh diberikan pada wanita hamil dg infeksi pri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is 100 mg / kg bb selama 30 – 45 h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ilaktik untuk mencegah transmisi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. gondi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ke j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am kandunga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lindamis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efektif untuk toksoplasm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Efek samping kolitis pseudomembranosa atau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litis  ulserat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idak dianjurkan untuk bayi dan wanita ham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ortikostero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digunakan untuk peradang pada mat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i tdk diberikan sebagai obat tungg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laritromisin dan azitromi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goba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droksinafkuin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 atoaguone 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kombinasi dengan sulfadiazi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at baru, dapat membunuh kista jaringan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da mencit, pada  manusia masih dal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eliti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</a:t>
            </a: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pidemiologi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kimo &amp; E1 Salvador prevalensi 1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erika tengah 9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onesia pada bintang        :kucing 35-73% ,     babi 11-36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mbing 11-61 %,  anjing 75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da manusia : 2 % &amp; 63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ransmisi penting makan daging kurang m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ransmisi melalui ookista ( kucing mengeluarkan 10 ju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okista sehari selama 2 minggu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</a:t>
            </a: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encegaha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Hindari makan daging kurang matang ( wani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i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uci tangan setelah pegang daging men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utup makanan hindari dari lalat, lip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yur – mayur cuci bersi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Hindari kucing peliharaan dari tikus dan buru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ksoplasmosis akuisita biasanya tidak fa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Bentuk kista tidak dapat dibasmi, bila kekebalan me ↓ dapat eksaserbasi ak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Toksoplasmosis kongenital berat → Fatal (meningg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Toksoplasmosis kongenital yang hidup → infeksi menahun &amp;  gejala sisa / eksaserbasi aku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Pengobatan spesifik tak dapat menghilangkan gejala sisa hanya mencegah kerusakan lebih lanju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4" descr="Toxoplasma gondii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5" name="Picture 4" descr="T-gondii-brain"/>
          <p:cNvPicPr/>
          <p:nvPr/>
        </p:nvPicPr>
        <p:blipFill>
          <a:blip r:embed="rId1"/>
          <a:stretch/>
        </p:blipFill>
        <p:spPr>
          <a:xfrm>
            <a:off x="1295280" y="457200"/>
            <a:ext cx="6292800" cy="5668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048120" y="63244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Toxoplasma  gon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Garamond"/>
              </a:rPr>
              <a:t>Toxoplasma gon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08 : Pertama kali ditemukan pada binatang  manger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→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tenodactyius  gundi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i tunis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37 : Pada neonatus dg ensefal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8 : Tes serologi ole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abin &amp; Felma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→ zat anti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nd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: Diketahui Daur hidup jelas → daur seksual pada ku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spes definit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kucing, binatang sejenis (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elidae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spes perantar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manusia, mamalia lain dan buru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enyaki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oxoplasmosis kongenital dan toksoplasmosis akuis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Geografi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kosmopolit pada manusia, bin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T-gondii-trofozoit2"/>
          <p:cNvPicPr/>
          <p:nvPr/>
        </p:nvPicPr>
        <p:blipFill>
          <a:blip r:embed="rId1"/>
          <a:stretch/>
        </p:blipFill>
        <p:spPr>
          <a:xfrm>
            <a:off x="1295280" y="603360"/>
            <a:ext cx="6553440" cy="4883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3537000" y="60199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Garamond"/>
              </a:rPr>
              <a:t>Toxoplasma gon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Calibri"/>
              </a:rPr>
              <a:t>Wuchereria bancrof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spes : manu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a penyakit :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filariasis bankrof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ukereriasis bankrof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ida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erdapat secara alamiah pada hewa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si geografik : daerah tropis termasuk Indon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jalanan penyakit : - std. mikrofila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td. aku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td. men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ktor   perkota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ulex quinquefascia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esaan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nophe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7CF1-66FE-424D-B332-15FAADAE7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4000" spc="-1" strike="noStrike">
                <a:solidFill>
                  <a:srgbClr val="e5e5ff"/>
                </a:solidFill>
                <a:latin typeface="바탕"/>
              </a:rPr>
              <a:t>                             </a:t>
            </a:r>
            <a:br>
              <a:rPr sz="4000"/>
            </a:b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uchereria 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Patklin : gejala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klinis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 filariasis limfat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Cacing dewasa             Mikrofila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adenitis                         </a:t>
            </a:r>
            <a:r>
              <a:rPr b="1" lang="en-US" sz="2400" spc="-1" strike="noStrike">
                <a:solidFill>
                  <a:srgbClr val="ffc000"/>
                </a:solidFill>
                <a:latin typeface="바탕"/>
              </a:rPr>
              <a:t>#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Tanpa geja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angitis retrograd            </a:t>
            </a:r>
            <a:r>
              <a:rPr b="1" lang="en-US" sz="2400" spc="-1" strike="noStrike">
                <a:solidFill>
                  <a:srgbClr val="ffc000"/>
                </a:solidFill>
                <a:latin typeface="바탕"/>
              </a:rPr>
              <a:t>#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바탕"/>
              </a:rPr>
              <a:t>Occult filaria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Limfede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Elefantia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uchereria 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ejala kli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d akut:   - Limfaden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Limfangitis retrogr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Peradangan sistem limfatik genitali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♂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funikulitis, epididimitis, ork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Std menahun: - Hidrok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Limfede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Elefantiasis : seluruh tungkai/lengan,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buah zakar, payudara, vul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- Kilu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biasanya mikrofilaremia negat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바탕"/>
              </a:rPr>
              <a:t>Daur hid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cing dewasa : hidup di sal./kel. Limf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krofilaria : hidup di dalam darah; memiliki peridiosita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onesia : periodik  nok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erah Pasifik : subperiodik di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angthai : subperiodik nok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idiositas dipengaruhi ole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adar O2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&amp; CO2 dalam dar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Aktivitas hospes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mekanisme past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  <a:ea typeface="바탕"/>
              </a:rPr>
              <a:t>be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Irama sirkardian ( bioritme )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 diketahu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Jenis hosp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바탕"/>
              </a:rPr>
              <a:t>Jenis parasi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4419720" y="4267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4419720" y="5638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952880" y="42670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B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Diagnosi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jala klin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ara Parasitologi : mikrofilaria dalam darah, cairan hidrokel/kilu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ara histopatologis : potongan cacing dewasa dalam jaringan hospes (biops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G skrotum dan kel. Inguin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filarial dance 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unologi : deteksi antigen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. bancroft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ngan teknik ELISA  (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nzyme Linked Immuno Sorb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ay ) dan ICT (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Immuno Chromatographic Tes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57960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 dan prognos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bat pilih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ietilkarbamasin sitra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hasiat : mikrofilarisidal dan makrofilarisid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perorangan : 6 mg / Kg bb/ hari selama 12 h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harian : 3 X pemberian per ha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ngobatan perlu diulang 2 – 3 k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 dan prognos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ek samping secara umum, ada 2 jenis reaksi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ksi sistemik : demam, sefalgia, artralgia, pusing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esis, serangan asma, anoreksia, reaksi alergi,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aturia transi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ksi lokal: limfadenitis, abses, ulserasi, transien limfedema, hidrokel, funikulitis, epididmit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bat alternatif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vermektin, albendaz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rapi massal di Indones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rendah jangka panja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 10 tahun : 50 mg/m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10 tahun : 100 mg/m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nsip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murah, mudah aman dan  efekt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Wuchereria </a:t>
            </a:r>
            <a:r>
              <a:rPr b="1" i="1" lang="id-ID" sz="2000" spc="-1" strike="noStrike">
                <a:solidFill>
                  <a:srgbClr val="ff0000"/>
                </a:solidFill>
                <a:latin typeface="바탕"/>
              </a:rPr>
              <a:t>b</a:t>
            </a:r>
            <a:r>
              <a:rPr b="1" i="1" lang="en-US" sz="2000" spc="-1" strike="noStrike">
                <a:solidFill>
                  <a:srgbClr val="ff0000"/>
                </a:solidFill>
                <a:latin typeface="바탕"/>
              </a:rPr>
              <a:t>ancroft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rapi massal DEPKES RI 2000: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Dosis WHO (2000) kombinasi 2 jenis obat tunggal 1 x / tah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4 – 6 tahun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tau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vermekt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Garam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1 t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Kombinasi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바탕"/>
              </a:rPr>
              <a:t>&amp;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lbendaz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sis tunggal +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ram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1 tah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 Indonesia sampai sekarang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sis rendah 1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mingg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40 mingg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Daur hidup </a:t>
            </a:r>
            <a:r>
              <a:rPr b="0" i="1" lang="en-US" sz="3600" spc="-1" strike="noStrike">
                <a:solidFill>
                  <a:srgbClr val="ffff00"/>
                </a:solidFill>
                <a:latin typeface="Garamond"/>
              </a:rPr>
              <a:t>Toxoplasm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UCING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skiz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d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gamet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NJA KUC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orogo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okis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K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USIA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trofozoi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P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H.p                                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kut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rofozoi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arnivoris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K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MALIA LA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U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.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ahu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ista jaring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6094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609480" y="10663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09480" y="106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1371600" y="1066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137160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1447920" y="1066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371600" y="1066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2666880" y="1066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219320" y="48006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3657600" y="48006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1143000" y="4876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1143000" y="2971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1143000" y="41911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20"/>
          <p:cNvSpPr/>
          <p:nvPr/>
        </p:nvSpPr>
        <p:spPr>
          <a:xfrm flipV="1">
            <a:off x="2819520" y="30477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1143000" y="2971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12193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1143000" y="27432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24"/>
          <p:cNvSpPr/>
          <p:nvPr/>
        </p:nvSpPr>
        <p:spPr>
          <a:xfrm flipV="1">
            <a:off x="3276720" y="18288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1219320" y="18288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26"/>
          <p:cNvSpPr/>
          <p:nvPr/>
        </p:nvSpPr>
        <p:spPr>
          <a:xfrm>
            <a:off x="3809880" y="11430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86200" y="28195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962520" y="3809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8862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486400" y="28195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31"/>
          <p:cNvSpPr/>
          <p:nvPr/>
        </p:nvSpPr>
        <p:spPr>
          <a:xfrm>
            <a:off x="6095880" y="30481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365760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33"/>
          <p:cNvSpPr/>
          <p:nvPr/>
        </p:nvSpPr>
        <p:spPr>
          <a:xfrm flipV="1">
            <a:off x="4876920" y="4038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3429000" y="2209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472428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36"/>
          <p:cNvSpPr/>
          <p:nvPr/>
        </p:nvSpPr>
        <p:spPr>
          <a:xfrm flipH="1">
            <a:off x="761760" y="3429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838080" y="129492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39"/>
          <p:cNvSpPr/>
          <p:nvPr/>
        </p:nvSpPr>
        <p:spPr>
          <a:xfrm flipV="1">
            <a:off x="2209680" y="4190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251460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41"/>
          <p:cNvSpPr/>
          <p:nvPr/>
        </p:nvSpPr>
        <p:spPr>
          <a:xfrm>
            <a:off x="198108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42"/>
          <p:cNvSpPr/>
          <p:nvPr/>
        </p:nvSpPr>
        <p:spPr>
          <a:xfrm>
            <a:off x="2057400" y="1600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99036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44"/>
          <p:cNvSpPr/>
          <p:nvPr/>
        </p:nvSpPr>
        <p:spPr>
          <a:xfrm flipV="1">
            <a:off x="990720" y="15235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838080" y="1295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46"/>
          <p:cNvSpPr/>
          <p:nvPr/>
        </p:nvSpPr>
        <p:spPr>
          <a:xfrm>
            <a:off x="990720" y="1523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47"/>
          <p:cNvSpPr/>
          <p:nvPr/>
        </p:nvSpPr>
        <p:spPr>
          <a:xfrm>
            <a:off x="1219320" y="65530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andid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andidosis / kandidiasis ialah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yakit jamur yang menyerang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ulit, kuku, selaput lendir dan alat dalam yang disebabkan oleh berbagai spesies </a:t>
            </a: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Candi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Penyebab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ndida albica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ndida tropicalis, Candida krusei, Candida parapsil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yebab terbanyak kandidosi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 C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ida albica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spesies denga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patogenitas paling tin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- C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ndid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diformik, membentuk sel ragi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an  hifa se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Gejala Klin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ndid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idup saprofit / komensal di</a:t>
            </a: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ngga mulut , saluran cerna,saluran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fas, mukosa vagina ,dibawah kuku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la terjadi perubahan fisiologi / kekebalan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penyaki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Faktor resik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1. Fisiologi → kehamilan, usia, h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2. Non fisiologi → trauma, maserasi / tukang cuci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gigi palsu, o.s di ICU, antibiotik / corticosteroid /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sitostat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rdasarkan lokalisasi kandidosi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 bagi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.  Kandidosis superfisi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I. Kandidosis sistemik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I. Kandidosis superfisiali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andidosis kuli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ditemukan terutama pada daerah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mbab dan hang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turunnya imunitas lok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sering terjadi disela jari kaki / tanga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uinal, perineum, bawah payu dara, ketia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  di sela jari / tanga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“penyakit kutu ai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oleh karena pekerjaan kontak dengan 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e5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Pada bay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082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jadi kandidosis inguinal, kandidosis perine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i kemerahan 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iaper ra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ada dew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Kandidiasis inguinal oleh karena kandidiasi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infeksi terjadi akibat tercemar saat membersihkan daerah perianal setelah defeka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lesi vesikopustular, maserasi dan eritem dasar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 gejala  utama, rasa gatal &amp; rasa sakit bila terjadi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erasi ( infeksi sekunder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2. Kandidosis kuku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iasa pada dewas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rjadi par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ia, kemerahan sekitar kuku &amp; bawah kuku, rasa nyer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uku </a:t>
            </a:r>
            <a:r>
              <a:rPr b="0" lang="id-ID" sz="3600" spc="-1" strike="noStrike">
                <a:solidFill>
                  <a:srgbClr val="ffffff"/>
                </a:solidFill>
                <a:latin typeface="Garamond"/>
              </a:rPr>
              <a:t>putih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pt susu, rapuh &amp; meneb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ermukaan kuku tidak rata, lepas, hila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ngenai satu, beberapa, seluruh kuku tangan &amp; kak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0" lang="en-US" sz="3600" spc="-1" strike="noStrike">
                <a:solidFill>
                  <a:srgbClr val="e5e5ff"/>
                </a:solidFill>
                <a:latin typeface="Calibri"/>
              </a:rPr>
              <a:t>. Kandidosis selaput lendir / muko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enai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ukosa vagin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ofarings, esofagus, intest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andidosis orof</a:t>
            </a: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ngs ( KOF 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pada bayi, orang tua, imunokompromis, DM, Ca, Steroid, antibiotik, lek</a:t>
            </a:r>
            <a:r>
              <a:rPr b="0" lang="id-ID" sz="32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ia, radiasi, HIV / AI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temukan bercak putih, seperti sis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usu dibibir, lidah, mukosa mul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andidosis selaput lendir /mukos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ada ♀ → vaginit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gejala utama: fluor albus / keputihan (encer – kental) disertai gatal pada vulva, nyeri, disuria, tidak berbau/minim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atofisiologi: perubahan lingkungan mikro dan imunitas lokal vagi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agnosis Kandidosi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 jamur (+) /  isolasi jamur dari bahan kli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a 2 car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asaan langsu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→ garam faal / KOH 10 % (usap vagi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2. Media agar Saboroud dextros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3. Kandidosis sistemik pem.Histopatologi jaring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Daur Hid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pitel usus kucing → skizogoni dan gametogoni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rogoni → ookista ( tinja ) t’telan hp peranta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r. Hospes dibtk kelompok trofozoit → takizo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dizoit → kista jaring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kuran kist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: - bbrp mikron – 200 mikr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engandung sedikit parasit – 3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kista seumur hidup dlm jar. hosp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Candida s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4" name="Picture 4" descr="candida"/>
          <p:cNvPicPr/>
          <p:nvPr/>
        </p:nvPicPr>
        <p:blipFill>
          <a:blip r:embed="rId1"/>
          <a:stretch/>
        </p:blipFill>
        <p:spPr>
          <a:xfrm>
            <a:off x="1600200" y="1347840"/>
            <a:ext cx="5715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Kandidosis inguinal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6" name="Picture 4" descr="Picture1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smellyvaginaldischarge.net/wp-content/uploads/2012/04/Candidiasis-Vagina.jpg"/>
          <p:cNvPicPr/>
          <p:nvPr/>
        </p:nvPicPr>
        <p:blipFill>
          <a:blip r:embed="rId1"/>
          <a:stretch/>
        </p:blipFill>
        <p:spPr>
          <a:xfrm>
            <a:off x="149400" y="1447920"/>
            <a:ext cx="4194000" cy="365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http://liafathir.files.wordpress.com/2012/04/vaginal-yeast-infection-and-candidiasis-treatment.jpg"/>
          <p:cNvPicPr/>
          <p:nvPr/>
        </p:nvPicPr>
        <p:blipFill>
          <a:blip r:embed="rId2"/>
          <a:stretch/>
        </p:blipFill>
        <p:spPr>
          <a:xfrm>
            <a:off x="5257800" y="19051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smellyvaginaldischarge.net/wp-content/uploads/2012/04/Candidiasis-Penis.jpg"/>
          <p:cNvPicPr/>
          <p:nvPr/>
        </p:nvPicPr>
        <p:blipFill>
          <a:blip r:embed="rId1"/>
          <a:stretch/>
        </p:blipFill>
        <p:spPr>
          <a:xfrm>
            <a:off x="1838160" y="1066680"/>
            <a:ext cx="524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ebab 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thirus pub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uma pada bagian rambut kemaluan, dapat juga pada rambut ketiak, jenggot, kumis, alis dan bulu m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ularan melalui kontak langsung, terutama pada waktu hubungan seks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ologi &amp; Gejala Klinik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sa gatal ; jika mengenai bulu mata  dap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ganggu penglihata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emukan parasit dari rambut kemaluan at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mbut lai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Ftiri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api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ektis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zen heksa klor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cukur rambut yang sa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12520" y="4876920"/>
            <a:ext cx="37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was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thirus pub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6" descr="foto27"/>
          <p:cNvPicPr/>
          <p:nvPr/>
        </p:nvPicPr>
        <p:blipFill>
          <a:blip r:embed="rId1"/>
          <a:stretch/>
        </p:blipFill>
        <p:spPr>
          <a:xfrm>
            <a:off x="685800" y="695160"/>
            <a:ext cx="3962520" cy="2581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203480" y="351468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mf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. pub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9" descr="1051023038"/>
          <p:cNvPicPr/>
          <p:nvPr/>
        </p:nvPicPr>
        <p:blipFill>
          <a:blip r:embed="rId2"/>
          <a:stretch/>
        </p:blipFill>
        <p:spPr>
          <a:xfrm>
            <a:off x="5562720" y="1362240"/>
            <a:ext cx="3200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ebab: 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Trichomonas vaginali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183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nya bentuk vegetat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nita: vagina &amp; uret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ki-laki: uretra, vesika seminalis dan pros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dup pada mukosa vagina memakan bakter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n lek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rkembang biak: belah pasang longitud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luar habitat bisa mati pada suhu 50°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da suhu 0°C dapat hidup 5 har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dak dapat Hidup pada sekret vagina asam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dak tahan desinfekstans, zat pulasan dan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bioti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ra Infeks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kontak langsung, tidak langsu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alat mandi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r>
              <a:rPr b="0" i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ara infek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Toksoplasmosis kongenital → Plasenta , bil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bu mendapat infeksi primer waktu ham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Toksoplasmosis akuisita → tertelan ookist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an daging mengandung kista jaring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Laboratorium → jarum suntik / alat lab ya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rkontaminasi, binatang percoba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Transplantasi org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ransfusi dar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ofisiologi  trikomoni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b seksual dg org yang mengandung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.vaginal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→ trofozoit menempel pada sel epitel vagina → terjadi melalui ligand-karbohidrat, parasit menggunakan Mannose dan N-asetil glukosamin unt penempelan → sekresi hidrolase lisosomal (sitotoksik) → sel target lisis shg mengeluarkan isinya,  sel debris yang akan dimakan oleh parasit →  pindah ke sel target lain, d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ofisiologi  trikomoni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la pH dan fisiologi sesuai maka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.vaginal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kan berkembang dengan cepat → degenerasi dan deskwamasi sel epitel vagina → serangan lekosit → sekret vagina ditemukan banyak lekosit, bercampur sel epitel → lekore (berbus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uor albus/ keputi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uritus vulva vag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pareu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jala klinis bisa eksaserbasi pada saat ha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Gejala klinis pada laki-laki : tidak K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spekulo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pitis macularis (strawberry cervi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tema vulva vag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nding vagina dan portio hiperemis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, petechia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kret putih kelabu berb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rikomonia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Komplikasi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neks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osalping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ometr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ertili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da ibu hamil : KPD, bayi lahir prematur d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BL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richomonas vaginal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2" descr="http://instruct.uwo.ca/biology/332a/wk2trc.jpg"/>
          <p:cNvPicPr/>
          <p:nvPr/>
        </p:nvPicPr>
        <p:blipFill>
          <a:blip r:embed="rId1"/>
          <a:stretch/>
        </p:blipFill>
        <p:spPr>
          <a:xfrm>
            <a:off x="657360" y="1009800"/>
            <a:ext cx="78771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ekret vagina pada 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kret tampak berbu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2" descr="http://www.medscape.com/content/1997/00/40/88/408848/art-w293.fig4a.jpg"/>
          <p:cNvPicPr/>
          <p:nvPr/>
        </p:nvPicPr>
        <p:blipFill>
          <a:blip r:embed="rId1"/>
          <a:stretch/>
        </p:blipFill>
        <p:spPr>
          <a:xfrm>
            <a:off x="762120" y="2790720"/>
            <a:ext cx="3429000" cy="246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atsu.edu/faculty/chamberlain/Website/lectures/lecture/image/bacvag.jpg"/>
          <p:cNvPicPr/>
          <p:nvPr/>
        </p:nvPicPr>
        <p:blipFill>
          <a:blip r:embed="rId2"/>
          <a:stretch/>
        </p:blipFill>
        <p:spPr>
          <a:xfrm>
            <a:off x="4848120" y="2867040"/>
            <a:ext cx="3229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</a:rPr>
              <a:t>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eluhan/gejala klin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saan fisik/vagina vul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Diagnosis Pasti: Menemukan parasit pada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meriksaan sekret vagina, sekret uretra, sekret prostat, ur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aramond"/>
              </a:rPr>
              <a:t>Trikomonias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Pengobat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sar pengobatan adalah membersihkan   mukosa vagina dengan obat oral dan topik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ronidazole : 2 x 500 mg selama 5-7 ha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ronidazole: 2 gram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ingle dos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mu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pikal : Metronidazole vaginal tab 500 mg/hari selama 5-7 har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gobati pasang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1" descr=""/>
          <p:cNvPicPr/>
          <p:nvPr/>
        </p:nvPicPr>
        <p:blipFill>
          <a:blip r:embed="rId1"/>
          <a:stretch/>
        </p:blipFill>
        <p:spPr>
          <a:xfrm>
            <a:off x="2193840" y="2766960"/>
            <a:ext cx="4743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        </a:t>
            </a: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tologi dan Gejala klin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kista tertelan → usus→ sebagian mati difag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bagian  b’kembang biak dalam sel →takizo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 pecah → menyerang sel2 lain → limfo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 makrofag → hematogen dan limfogen →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uruh organ tubuh kecuali sel darah merah 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a sudah ada kekebalan → kista jaring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Gejala klin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rusakkan yang terjadi tergantung pada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mur pender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rulensi strain Toxoplas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mlah paras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 yang disera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ejala klin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ksoplasmosis ak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simptomatik ; limfadenopati, malaise, demam, sakit kepa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feksi primer pd ibu hamil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→ T. kongenital (retinokoroiditis, gejala timbul bila anak sdh mulai besar, rema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e5ff"/>
                </a:solidFill>
                <a:latin typeface="Garamond"/>
              </a:rPr>
              <a:t>Toxoplasma gondi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Gejala klini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oksoplasmosis Kongeni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ambaran bermacam-macam (eritroblastosis, hidrops fetalis dan triad klasik :  hidrosepalus, retinokoroiditis, kalsifikasi intrakranial, kelainan psikomo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ejala susunan saraf pus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8:21:35Z</dcterms:created>
  <dc:creator>Parasitologi</dc:creator>
  <dc:description/>
  <dc:language>en-US</dc:language>
  <cp:lastModifiedBy>AVA</cp:lastModifiedBy>
  <dcterms:modified xsi:type="dcterms:W3CDTF">2004-12-31T18:28:26Z</dcterms:modified>
  <cp:revision>84</cp:revision>
  <dc:subject/>
  <dc:title>Slide 1</dc:title>
</cp:coreProperties>
</file>