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BB2-1C3E-44AA-9D49-FBEE9749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82F-5B4F-4D16-973F-C8CDC57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041-22C9-4ED0-8919-AF80CCF9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609-20B5-4DA9-A3A8-82CBAF02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469-A00D-43EE-A510-F8D7691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639-39A1-4145-9FA0-339F934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8DC-E35A-4231-AD15-9DA1A9F3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278-D551-493A-A909-BE52557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CD1-B64D-4BAF-B3C2-27B5B5B7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35D-0E86-4F72-B2F7-37EB8E9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6F-BD12-4AAB-AE1E-B0EEB8E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848-20A7-4219-98E6-D58FB5A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679C9-1089-4B68-B500-6AF45EE320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1B9E1-0AD5-4502-B3D2-45FE8713775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3:30:44Z</dcterms:created>
  <dc:creator>최봉수</dc:creator>
  <dc:description/>
  <dc:language>en-US</dc:language>
  <cp:lastModifiedBy>맛있다 군만두</cp:lastModifiedBy>
  <dcterms:modified xsi:type="dcterms:W3CDTF">2023-07-13T11:14:41Z</dcterms:modified>
  <cp:revision>3</cp:revision>
  <dc:subject/>
  <dc:title>슬라이드 1</dc:title>
</cp:coreProperties>
</file>